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E603-C8A0-461C-AE9B-2BEFC10FB9D7}" type="slidenum"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V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loops back to the first working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introduction as a whole class activity this presentation can be used individually for further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Identify what is in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dentify the initial phoneme, click to bring it in and see if you were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Continue until complete word is buil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Re-read the 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ossible Extension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copy the word on to the white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write the word from memory onto the white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flashcards of the same words.  Look at the picture together.  Ask who thinks they may have that word on their c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67A-FFB7-41BC-A2C9-253E8B3E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728-CFD9-4BA5-9859-AFD8FFB1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6AC-A403-4991-9DC2-76EF4040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ED0-B9CF-49E6-87FF-EE8049AF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3AF-90B3-430E-B255-1C0A233E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241-D315-4923-802C-06CDBD79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36A-675A-48AD-8BF9-902459A4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B37-07A2-41EF-A3AE-2CBF7072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57E-77FF-464B-82F9-A9A78528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D59-D43B-4E5E-B408-5D48EE7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BCA-1058-4B58-892D-22BBAB28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674-6940-4CEC-B765-F22705CF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AFD-8D0D-49B2-A0A2-F1DAE6BB3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VC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onant/vowel/conson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by Veronica Carter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das Y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avilion.co.uk/camelsdal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National Literacy Strateg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on in Phonics, Step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819520" y="3429000"/>
          <a:ext cx="386712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429000"/>
                    <a:ext cx="3867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819520" y="6094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60948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60948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62520" y="2743200"/>
          <a:ext cx="1376280" cy="316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743200"/>
                    <a:ext cx="137628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666880" y="533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609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609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276720" y="3657600"/>
          <a:ext cx="228600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3657600"/>
                    <a:ext cx="22860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590920" y="7621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7621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762120"/>
            <a:ext cx="243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c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514600" y="3429000"/>
          <a:ext cx="387684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429000"/>
                    <a:ext cx="38768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666880" y="76212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762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7621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666880" y="2666880"/>
          <a:ext cx="3867120" cy="331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666880"/>
                    <a:ext cx="38671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609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609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60948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124080" y="3200400"/>
          <a:ext cx="2657520" cy="27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3200400"/>
                    <a:ext cx="26575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819520" y="4572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572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45720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590920" y="3581280"/>
          <a:ext cx="3867120" cy="113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581280"/>
                    <a:ext cx="38671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971800" y="68580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685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68580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895480" y="2819520"/>
          <a:ext cx="3505320" cy="34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819520"/>
                    <a:ext cx="350532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971800" y="457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572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4572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352680" y="2743200"/>
          <a:ext cx="2476800" cy="37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743200"/>
                    <a:ext cx="24768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362320" y="5335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53352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5335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971800" y="3276720"/>
          <a:ext cx="3876840" cy="255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276720"/>
                    <a:ext cx="38768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124080" y="6094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60948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60948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971800" y="2438280"/>
          <a:ext cx="3279600" cy="35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327960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200400" y="68580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685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685800"/>
            <a:ext cx="1905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GillEdOUPTTPC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18:01:30Z</dcterms:created>
  <dc:creator>Veronica</dc:creator>
  <dc:description/>
  <dc:language>en-US</dc:language>
  <cp:lastModifiedBy>Mike Freedman</cp:lastModifiedBy>
  <dcterms:modified xsi:type="dcterms:W3CDTF">2001-02-23T17:16:49Z</dcterms:modified>
  <cp:revision>14</cp:revision>
  <dc:subject/>
  <dc:title>No Slide Title</dc:title>
</cp:coreProperties>
</file>