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7D1D-C5AF-4947-A92D-0BE8F02146EC}" type="slidenum"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nal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automatically loops back to the first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llowing introduction as a whole class activity this presentation may be used individuallu for further pract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 Identify what is in the pi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Sound out first 2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Say complete word and identify the missing final phon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 Check you are corr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E91-9164-4E8A-9E10-51BF11F8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752-5EF3-482D-A7D9-666F316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062-DF39-420E-9AEF-74F889DB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C6D-35E8-4C86-B2E4-7F55653C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-5338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F8D-02C1-4373-BD5B-7EC1083D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2FC-5B17-4979-9933-8ACFC3CF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244-AB25-4B07-97A1-74C5456A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22E-FD4C-40A0-8269-C612BAB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3132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A49-6D6F-4183-A858-4C9DF273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574-AC6C-4F3C-9365-0E11DE0C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9B7-0E29-4A93-912E-00655A77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41A-91A2-4A2C-943F-237CF8F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spcBef>
                <a:spcPts val="5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1" marL="118800" indent="-4572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2" marL="18288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3" marL="25596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4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5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6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DA10-57D0-4E78-A778-3A35EC86C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Phoneme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National Literacy Strateg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on in Phonics, Step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00200" y="1066680"/>
          <a:ext cx="51814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51814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5909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00400" y="533520"/>
          <a:ext cx="2379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33520"/>
                    <a:ext cx="2379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514600" y="266688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r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90920"/>
            <a:ext cx="23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276720" y="609480"/>
            <a:ext cx="2255040" cy="2209320"/>
            <a:chOff x="3276720" y="609480"/>
            <a:chExt cx="2255040" cy="2209320"/>
          </a:xfrm>
        </p:grpSpPr>
        <p:sp>
          <p:nvSpPr>
            <p:cNvPr id="91" name=""/>
            <p:cNvSpPr/>
            <p:nvPr/>
          </p:nvSpPr>
          <p:spPr>
            <a:xfrm>
              <a:off x="3276720" y="609480"/>
              <a:ext cx="2255040" cy="220932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3440" y="2010240"/>
              <a:ext cx="199440" cy="668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4600" y="1929600"/>
              <a:ext cx="372600" cy="72828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47800" y="1030680"/>
              <a:ext cx="600840" cy="52740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27080" y="1167840"/>
              <a:ext cx="566280" cy="49788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1440" y="1458360"/>
              <a:ext cx="1513440" cy="44100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9040" y="1996560"/>
              <a:ext cx="158760" cy="67824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880" y="1916280"/>
              <a:ext cx="1067400" cy="77544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94920" y="726120"/>
              <a:ext cx="942840" cy="78228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54360" y="1114200"/>
              <a:ext cx="549720" cy="47124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37600" y="1251360"/>
              <a:ext cx="632160" cy="5176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0760" y="2086560"/>
              <a:ext cx="113400" cy="45468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4080" y="2057040"/>
              <a:ext cx="92880" cy="43704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8080" y="876960"/>
              <a:ext cx="1053360" cy="72828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24080" y="2971800"/>
            <a:ext cx="29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97180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609480"/>
          <a:ext cx="30132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609480"/>
                    <a:ext cx="30132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0" y="297180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fr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76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743200" y="228600"/>
          <a:ext cx="348444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48444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66880" y="281952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81952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1800" y="838080"/>
          <a:ext cx="266688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838080"/>
                    <a:ext cx="266688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6520" y="28954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Freestyle Script"/>
              </a:rPr>
              <a:t> </a:t>
            </a:r>
            <a:r>
              <a:rPr b="1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514600"/>
            <a:ext cx="3990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124080" y="838080"/>
          <a:ext cx="281952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28195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666880" y="28195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h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8195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05320" y="950760"/>
          <a:ext cx="22860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950760"/>
                    <a:ext cx="22860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666880" y="27432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s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743200"/>
            <a:ext cx="380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429000" y="838080"/>
          <a:ext cx="20448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838080"/>
                    <a:ext cx="20448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28195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8195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200400" y="990720"/>
          <a:ext cx="259092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90720"/>
                    <a:ext cx="25909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59092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362320" y="914400"/>
          <a:ext cx="441936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4193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14600" y="26668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v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666880"/>
            <a:ext cx="167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505320" y="762120"/>
          <a:ext cx="19810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19810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535840" y="3124080"/>
            <a:ext cx="28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e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3124080"/>
            <a:ext cx="114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657600" y="762120"/>
          <a:ext cx="15001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762120"/>
                    <a:ext cx="1500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819520" y="297180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971800"/>
            <a:ext cx="144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20:41:26Z</dcterms:created>
  <dc:creator>Veronica</dc:creator>
  <dc:description/>
  <dc:language>en-US</dc:language>
  <cp:lastModifiedBy>Veronica</cp:lastModifiedBy>
  <dcterms:modified xsi:type="dcterms:W3CDTF">2001-01-06T20:53:50Z</dcterms:modified>
  <cp:revision>17</cp:revision>
  <dc:subject/>
  <dc:title>No Slide Title</dc:title>
</cp:coreProperties>
</file>