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breeze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AD2-FADB-4D71-A6B6-82DEB6AA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1D1-D260-4C19-825F-D17365FA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352-E255-4CEE-B062-78E8B4DA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653-D16D-4F11-AA7A-5E2A9871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BB2-61D3-48E9-80A6-0B69A9EC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F65-D389-491F-BC5D-CDAF85AC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601-5271-40DA-8D84-CF2A99A6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00C-6EA7-4251-9D4C-C1513119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C32-8AA3-470E-BA64-6E3D1B6E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CBD-AD01-4DA4-8BF3-DAB2138C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4D9B-FA9E-46FE-8E5D-BF7FC867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C7D-7569-4ECD-B3F1-B4EA6779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058D-A362-4D15-BED4-B7332EAC68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degg.com/pi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www.poetryofimage.com/pine%2520trees%2520in%2520snow.jpg&amp;imgrefurl=http://www.poetryofimage.com/nature2.htm&amp;h=630&amp;w=473&amp;prev=/images%3Fq%3Dpine%2Btrees%26svnum%3D10%26hl%3Den%26lr%3D%26ie%3DUTF-8%26oe%3DUTF-8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www.clasohm.com/photodb/img/4917-md.jpg&amp;imgrefurl=http://www.clasohm.com/photodb/photo%3Fphoto_id%3D4917&amp;h=620&amp;w=683&amp;prev=/images%3Fq%3Dblack%2Bknight%26svnum%3D10%26hl%3Den%26lr%3D%26ie%3DUTF-8%26oe%3DUTF-8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freespace.virgin.net/abi.bown/illustrations/charlotte.jpg&amp;imgrefurl=http://freespace.virgin.net/abi.bown/chapters/charlotte.html&amp;h=400&amp;w=456&amp;prev=/images%3Fq%3Dcharlottes%2Bweb%26svnum%3D10%26hl%3Den%26lr%3D%26ie%3DUTF-8%26oe%3DUTF-8%26sa%3DG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www.washington.edu/newsroom/news/images/flies.jpg&amp;imgrefurl=http://www.washington.edu/newsroom/news/images/&amp;h=1000&amp;w=1280&amp;prev=/images%3Fq%3Dflies%26svnum%3D10%26hl%3Den%26lr%3D%26ie%3DUTF-8%26oe%3DUTF-8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ctiontreasurehunts.co.uk/images/red%20london%20bus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Comic Sans MS"/>
              </a:rPr>
              <a:t>The long vowel phoneme 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is linked to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Comic Sans MS"/>
              </a:rPr>
              <a:t>four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different spelling choices or graphe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Comic Sans MS"/>
              </a:rPr>
              <a:t>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99ff66"/>
                </a:solidFill>
                <a:latin typeface="Comic Sans MS"/>
              </a:rPr>
              <a:t>i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6699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o you have many graphemes to remember this week! Let’s start with </a:t>
            </a:r>
            <a:r>
              <a:rPr b="0" lang="en-GB" sz="3200" spc="-1" strike="noStrike" u="sng">
                <a:solidFill>
                  <a:srgbClr val="99ff66"/>
                </a:solidFill>
                <a:uFillTx/>
                <a:latin typeface="Comic Sans MS"/>
              </a:rPr>
              <a:t>i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member the rhy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Comic Sans MS"/>
              </a:rPr>
              <a:t>‘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When two vowels go a-walkin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The one in front does the talking.’</a:t>
            </a:r>
            <a:r>
              <a:rPr b="1" i="1" lang="en-GB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ffff"/>
                </a:solidFill>
                <a:latin typeface="Comic Sans MS"/>
              </a:rPr>
              <a:t>Well you can use it with to jog your memory when you use </a:t>
            </a:r>
            <a:r>
              <a:rPr b="1" i="1" lang="en-GB" sz="2400" spc="-1" strike="noStrike">
                <a:solidFill>
                  <a:srgbClr val="99ff66"/>
                </a:solidFill>
                <a:latin typeface="Comic Sans MS"/>
              </a:rPr>
              <a:t>ie</a:t>
            </a:r>
            <a:r>
              <a:rPr b="1" i="1" lang="en-GB" sz="2400" spc="-1" strike="noStrike">
                <a:solidFill>
                  <a:srgbClr val="00ffff"/>
                </a:solidFill>
                <a:latin typeface="Comic Sans MS"/>
              </a:rPr>
              <a:t> in a 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d just love some of that cheese and onion pie, but I’m on a diet!” sighed poor old m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2349360"/>
            <a:ext cx="20764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Let’s move on to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-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laced at the end of the word makes the vowel in front say it’s n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i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m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id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id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lid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lic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i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qui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ri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i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k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l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quite like to write about the beautiful pine trees in my garden, when they are covered in soft white sno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844640"/>
            <a:ext cx="154764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Comic Sans MS"/>
              </a:rPr>
              <a:t>The next grapheme is probably the most tricky so you had better put on your thinking caps for this one!</a:t>
            </a:r>
            <a:br>
              <a:rPr sz="2400"/>
            </a:b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It’s </a:t>
            </a: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ig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was a terribl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 to see the brave k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 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 the evil black k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 in the tourna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497480"/>
            <a:ext cx="2160720" cy="1969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99"/>
                </a:solidFill>
                <a:latin typeface="Comic Sans MS"/>
              </a:rPr>
              <a:t>The last one is </a:t>
            </a:r>
            <a:r>
              <a:rPr b="0" lang="en-GB" sz="6600" spc="-1" strike="noStrike">
                <a:solidFill>
                  <a:srgbClr val="ff0066"/>
                </a:solidFill>
                <a:latin typeface="Comic Sans MS"/>
              </a:rPr>
              <a:t>y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his one is easy to remember as this grapheme usually appears at the end of a wo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hich one is the odd one ou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Ju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u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u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p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ye, bye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mic Sans MS"/>
              </a:rPr>
              <a:t>Wilbur the amazing pig could only cry when his shy friend Charlotte the spider died, in his sty in Ju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mic Sans MS"/>
              </a:rPr>
              <a:t>“</a:t>
            </a:r>
            <a:r>
              <a:rPr b="0" lang="en-GB" sz="2000" spc="-1" strike="noStrike">
                <a:solidFill>
                  <a:srgbClr val="ff0066"/>
                </a:solidFill>
                <a:latin typeface="Comic Sans MS"/>
              </a:rPr>
              <a:t>Bye, bye, Charlotte, my true friend”, he sobb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789360"/>
            <a:ext cx="2592360" cy="2276640"/>
          </a:xfrm>
          <a:prstGeom prst="rect">
            <a:avLst/>
          </a:prstGeom>
          <a:ln w="0">
            <a:noFill/>
          </a:ln>
        </p:spPr>
      </p:pic>
    </p:spTree>
  </p:cSld>
  <p:transition>
    <p:cover dir="ld"/>
    <p:sndAc>
      <p:stSnd>
        <p:snd r:embed="rId3" name="breeze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Now it’s your turn, write the words as plurals.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Remember with words ending in y, take off the y and add –ie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i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 hate flies as they carry germs,” said Mrs. Mo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844640"/>
            <a:ext cx="28260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3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o what’s been happening lately to Peter Goodfellow, the kindly tramp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218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t had been raining and Peter had gone to hide in a bus shelter. With a smile he wiped his face with his tie. He dug down into his jacket pocket and found a two pound coins. A bright red bus was coming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might just ride on the bus for a mile or two and stop off for a nice, slice of pie and some fried tomatoes at The Light Bite Cafe. Wonderful!” he sigh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4941720"/>
            <a:ext cx="1841400" cy="173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948360" y="5661000"/>
            <a:ext cx="1663920" cy="99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Well did you spot all of 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e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 phoneme words? There were 14, did you find them all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218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t had been raining and Peter had gone to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id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in a bus shelter. With a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mil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iped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his face with his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i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 He dug down into his jacket pocket and found a two pound coins. A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righ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red bus was coming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might just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id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n the bus for a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il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r two and stop off for a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c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lic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i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and som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ried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tomatoes at 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ight Bit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fe. Wonderful!” 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ighed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451640" y="4653000"/>
            <a:ext cx="15163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Can you remember all the graphemes that can be used to make the long vowel phoneme,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e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i-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15:56:06Z</dcterms:created>
  <dc:creator>Jane Armstrong</dc:creator>
  <dc:description/>
  <dc:language>en-US</dc:language>
  <cp:lastModifiedBy>Jane Armstrong</cp:lastModifiedBy>
  <dcterms:modified xsi:type="dcterms:W3CDTF">2003-11-01T17:15:32Z</dcterms:modified>
  <cp:revision>2</cp:revision>
  <dc:subject/>
  <dc:title>The long vowel phoneme ie</dc:title>
</cp:coreProperties>
</file>