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996B-F0CC-4130-A208-AED4DBD2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7EF1-8838-4A5C-A06D-1458E9E9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EDB4-0FCD-46F2-82A8-87B07EAD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F2F9-2556-4918-88E3-7AC717C3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6201B-2CEC-4387-AC23-4FBA3C18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DF201-D1CB-4BD5-ADC0-19C75961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C24BE-4185-4AB4-A002-07CC334B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CFABB-0183-44A4-B893-2B46AFAF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9EBB2-0664-4180-BD7F-5FBADCDD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9B57B-7732-4620-B3B6-66372E6E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15868-E948-4D14-B138-3A026ED3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6B94-356C-4B3A-BB06-6D0D7831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4DD58-2264-4873-9A65-1712F275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6532A-D3AB-47AD-BA86-1EE6BD60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5E57E-A208-41D1-960A-8FBC97F0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20F79-C035-4D5C-B109-9077681A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0A790-B1DF-4A96-9045-CBCFDD5F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FF51-7114-4BED-945B-CBBA05A5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C3AA-411A-40C7-A3D5-A9E3CF33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7942-3144-4220-A5F7-BE04B402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AB3D-7983-4689-A418-8095A8C8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204D-FDAB-437E-B795-0F8BF034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DB42-8E04-4379-A0C8-0EA86060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E604-176C-45BF-8EAA-05AF6121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E42E-2317-4EDF-B470-95335321FF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F61A-9D6A-4084-ABEE-3EAA6A7047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Words containing ‘-ie’ and ‘-cei’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n you group the following words and make observations as to any patterns you obser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Here they ar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ce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ie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ie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lie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hie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ei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lie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e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lie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trie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chie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ce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e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rie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ie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ie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ce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hie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ie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here is an old spelling ru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cc00"/>
                </a:solidFill>
                <a:latin typeface="Tahoma"/>
              </a:rPr>
              <a:t>i before e except after c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id you find any exceptions to this ru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hat phonemes do these graphemes represen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cc00"/>
                </a:solidFill>
                <a:latin typeface="Tahoma"/>
              </a:rPr>
              <a:t>ei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c600"/>
                </a:solidFill>
                <a:latin typeface="Tahoma"/>
              </a:rPr>
              <a:t>cei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11:04:36Z</dcterms:created>
  <dc:creator>Jane Armstrong</dc:creator>
  <dc:description/>
  <dc:language>en-US</dc:language>
  <cp:lastModifiedBy>Jane Armstrong</cp:lastModifiedBy>
  <dcterms:modified xsi:type="dcterms:W3CDTF">2005-01-01T11:17:36Z</dcterms:modified>
  <cp:revision>1</cp:revision>
  <dc:subject/>
  <dc:title>Words containing ‘-ie’ and ‘-cei’</dc:title>
</cp:coreProperties>
</file>