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E0A-D82F-41E9-B104-6CCD0A42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023-DCC1-440B-B1C4-D9D2802C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672-1911-4193-8043-36CAD82D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AE3-8E74-4E52-ADA6-A51385C7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5DB-AA06-420E-9BAF-89633A26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326-FA24-4A8A-B296-C6209F35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C15-FC05-4395-8CC8-CAD01630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4EFA-3B9B-4C2B-82A4-FA41338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BBC7-DE7D-43E0-A15F-86371EFB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F16D-B97C-43E5-ABDC-C6A6F4CA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A1A6-A727-4E65-BF94-E257798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889-5173-47BB-9284-A6B67F3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10DC-D184-46D1-BF29-AC65D91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8FAC-5183-426F-9596-D2F4F6EF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DB2A-D88F-41B2-8D7F-5BC4AC17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383A-4E0D-4A9B-A89E-CFB4D2EF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EF90-B7D1-4EA6-9A89-C93C1518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8FE-5DB8-48EA-B655-924BBE1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7A2-E460-4976-8D67-07987A44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792-83AF-49CC-B54F-BCFDB2DD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422-BDF1-4F59-B429-A85C263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11C-51D3-4298-A94F-1650F75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020-2961-455E-9D64-EFB18B6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E7E-D321-4A1B-8E6E-24B325C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A58B-0972-458A-9C20-4B42DE77F0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F55-51A1-4D37-A5AB-39D8007BAD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dding the Suffix ‘</a:t>
            </a: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ful</a:t>
            </a: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What rules do we need to remember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When ‘ful’ is added to a word as a suffix, only one l is us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ar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beauti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deligh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grat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help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hop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pain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peac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though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truth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ast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il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ond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The same applies to other words, normally having double ‘l’, when used as a prefix or a suffix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Fulfi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Skilfu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wilfu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BC font"/>
              </a:rPr>
              <a:t>What do these word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art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wil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1771560"/>
            <a:ext cx="373356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Now get you wipe boards at the ready. Scan the text and write down all the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–ful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words you can spo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Skilful Goal-keep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Scotland was successful in the European Cup on Saturday because of the skilful tactics of the goal keeper Bobby Mart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He played a wonderful game, although he received a painful knee injury in the first half. His team-mates were helpful and the crowd demonstrated that they were always hopeful of a win. The fans were peaceful and the other side were wasteful of the chances which came their w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Scotland will now meet Germany in the semi-final next Thursd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id you spot them all? There were 8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uccess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onder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Pain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elp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op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Peac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ast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3810240" cy="2743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Turn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y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at the end of a word into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i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when you add fu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Beau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Beau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ff"/>
                </a:solidFill>
                <a:latin typeface="ABC font"/>
              </a:rPr>
              <a:t>Ple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ff"/>
                </a:solidFill>
                <a:latin typeface="ABC font"/>
              </a:rPr>
              <a:t>Plen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Fa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Fanc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BC font"/>
              </a:rPr>
              <a:t>Mer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BC font"/>
              </a:rPr>
              <a:t>Merc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BC font"/>
              </a:rPr>
              <a:t>P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BC font"/>
              </a:rPr>
              <a:t>pi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2248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Now if </a:t>
            </a:r>
            <a:r>
              <a:rPr b="1" lang="en-GB" sz="3200" spc="-1" strike="noStrike" u="sng">
                <a:solidFill>
                  <a:srgbClr val="ff6600"/>
                </a:solidFill>
                <a:uFillTx/>
                <a:latin typeface="Arial"/>
              </a:rPr>
              <a:t>ly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to a word which already ends in ‘l’, then the ‘l’ is doubl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e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beauti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ope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uccess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truth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onder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kilful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and so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TASK: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Can you write a complex sentence that includes one or more of these word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486080" cy="190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38760" y="3778200"/>
            <a:ext cx="279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0:43:50Z</dcterms:created>
  <dc:creator>Jane Armstrong</dc:creator>
  <dc:description/>
  <dc:language>en-US</dc:language>
  <cp:lastModifiedBy>Jane Armstrong</cp:lastModifiedBy>
  <dcterms:modified xsi:type="dcterms:W3CDTF">2005-01-01T21:19:55Z</dcterms:modified>
  <cp:revision>4</cp:revision>
  <dc:subject/>
  <dc:title>Adding the Suffix ‘ful’</dc:title>
</cp:coreProperties>
</file>