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403B-D858-4245-BF4A-716BF91A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31A8-6420-4FC6-A2CC-03E2553B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B0BD-4CF0-4B43-8FCD-5E03623E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0184-F693-4411-85FB-95EEC614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A2E2-2432-47EE-A6D7-98F081A5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1BA1-92E6-4F46-B179-6083EFF6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4B3F-7445-42E7-A656-A2C61183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655A-7D33-45BF-B89B-876156B6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2784-C60E-43B4-9E6C-67CDCA75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5E1D-5D67-4044-B186-69A8CA87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08D7-294D-4AC6-882A-AFDCBA86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964B-E6A0-4901-A541-1C31658E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097D-64D8-48F6-A494-B3931917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A1F6-0E87-4EA9-AD97-B41BA552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973E-7FBC-4A7E-B2B9-D6BCDE5A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E8BC-23FE-4CEA-A48E-47A83E05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1130-0C2C-4E09-9560-2CC7DA95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21D3-0879-49BE-BF69-95F22839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7CFB-9340-4FF2-8E1C-D16FAB7C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FB96-2834-4633-8422-4F4D2BB5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6017-225A-4F31-8CAA-A9C0B925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4CB-416A-4F54-B714-559430E7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F6FD-1153-46A9-8A1F-85D1A8BB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3882-3F11-4121-9C67-6717F360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FD02-7B44-44AA-8608-8733CA11ED7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2DEE-63FB-4ED9-9D86-C6AC4F6931F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dding suffixes to words with modifying </a:t>
            </a:r>
            <a:r>
              <a:rPr b="1" lang="en-GB" sz="5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pelling R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691056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RULES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rop the e to add vowel suffix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tain  the e to add consonant suffixes</a:t>
            </a:r>
            <a:br>
              <a:rPr sz="2000"/>
            </a:b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omplete the table below using your wipeboard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Root word       ing        ed       ly      l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a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u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ask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x and match a handful of base words with different suffix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230184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omic Sans MS"/>
              </a:rPr>
              <a:t>Useful base wor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hear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ic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ov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v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mi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a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maz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ci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r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616200" y="1916280"/>
            <a:ext cx="181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19640" y="1773360"/>
            <a:ext cx="5040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Vowel suffixes        Consonant suffixes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g                   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d                    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sh                   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r                    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st                   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35840" y="1797120"/>
            <a:ext cx="218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03840" y="17254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16560" y="1797120"/>
            <a:ext cx="275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4:28:00Z</dcterms:created>
  <dc:creator>Jane Armstrong</dc:creator>
  <dc:description/>
  <dc:language>en-US</dc:language>
  <cp:lastModifiedBy>Jane Armstrong</cp:lastModifiedBy>
  <dcterms:modified xsi:type="dcterms:W3CDTF">2005-04-06T14:45:18Z</dcterms:modified>
  <cp:revision>1</cp:revision>
  <dc:subject/>
  <dc:title>Adding suffixes to words with modifying e</dc:title>
</cp:coreProperties>
</file>