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D5C-B818-43F6-9E0F-EBC63A5A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B9D-5075-4A2E-B213-DD30A96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B40-2FF9-45D5-95E6-A4F88BCF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AB7-B8F3-4A54-8ADA-CE2BC30E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504D-D3C3-4EFD-93DE-C62E4059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F11F-E312-4BD7-B599-772F301B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4C48-1F27-4DB1-A382-BA752F23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2872-1F1B-4641-8989-221115A9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8B28-EAF4-4A79-8C7A-95677EBD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A3EF-09A2-4203-85DC-550AC3AC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A20A-1578-4EAB-ABCE-90E98BCA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14D-285C-46C0-9D54-96268FD9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98BB-8EE6-4AFF-B82E-02089FA5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7122-9F3B-4D85-899B-A31F6670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4E67-1336-41BD-8EAD-EDDB0FB7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4282-EBA8-4496-910D-1A7F2C86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033E-767E-4A36-A782-D8C01062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B97-BFF1-4E16-BBF6-0EE67349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81F-C37C-4E2F-AD03-70451726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C10-D638-41A4-8614-25A91143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92A-A19A-4FDC-843F-6EE7FBB4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9C6-DC6A-4602-80E0-60BF527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595-8CEB-4D7A-B615-BFA7FFF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C3C-E10C-4D72-9D96-A15E981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DA6F-0CDD-4703-A0AC-730378B0F48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BB3-EBC3-4B29-9A61-853283D1E9E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http://images.google.co.uk/imgres?imgurl=http://www.klipp-lischner.net/arthur/pictures/weigh-in.jpg&amp;imgrefurl=http://www.klipp-lischner.net/arthur/pictures.cgi%3Fsortby%3Dtime&amp;h=597&amp;w=883&amp;sz=24&amp;tbnid=-fHo5SgoV0EJ:&amp;tbnh=98&amp;tbnw=144&amp;start=7&amp;prev=/images%3Fq%3Dweigh%26hl%3Den%26lr%3D%26sa%3D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7d47d"/>
                </a:solidFill>
                <a:latin typeface="Arial"/>
              </a:rPr>
              <a:t>ie and ei words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BC font"/>
              </a:rPr>
              <a:t>Are there any rules which would help us learn, which grapheme to u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7d47d"/>
                </a:solidFill>
                <a:latin typeface="ABC font"/>
              </a:rPr>
              <a:t>These words are spelt with ei. You can tell because the ei sounds a little like capital ‘A’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igh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i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eig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Ve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Veil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reight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i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eighbou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00720" y="2205000"/>
            <a:ext cx="26650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7d47d"/>
                </a:solidFill>
                <a:latin typeface="Arial"/>
              </a:rPr>
              <a:t>Now here comes a rule:</a:t>
            </a:r>
            <a:br>
              <a:rPr sz="3600"/>
            </a:br>
            <a:r>
              <a:rPr b="1" lang="en-GB" sz="3600" spc="-1" strike="noStrike">
                <a:solidFill>
                  <a:srgbClr val="f7d47d"/>
                </a:solidFill>
                <a:latin typeface="Arial"/>
              </a:rPr>
              <a:t>I before e </a:t>
            </a:r>
            <a:r>
              <a:rPr b="1" i="1" lang="en-GB" sz="3600" spc="-1" strike="noStrike">
                <a:solidFill>
                  <a:srgbClr val="f7d47d"/>
                </a:solidFill>
                <a:latin typeface="Arial"/>
              </a:rPr>
              <a:t>except</a:t>
            </a:r>
            <a:r>
              <a:rPr b="1" lang="en-GB" sz="3600" spc="-1" strike="noStrike">
                <a:solidFill>
                  <a:srgbClr val="f7d47d"/>
                </a:solidFill>
                <a:latin typeface="Arial"/>
              </a:rPr>
              <a:t> after c, if the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i</a:t>
            </a:r>
            <a:r>
              <a:rPr b="1" lang="en-GB" sz="3600" spc="-1" strike="noStrike">
                <a:solidFill>
                  <a:srgbClr val="f7d47d"/>
                </a:solidFill>
                <a:latin typeface="Arial"/>
              </a:rPr>
              <a:t> rhymes with be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ce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on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on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fu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But don’t be fooled some words break this rule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ience, glacier and ancien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5076720" y="1628640"/>
            <a:ext cx="13874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These ei words don’t follow a rule so you just have to </a:t>
            </a:r>
            <a:r>
              <a:rPr b="1" lang="en-GB" sz="3600" spc="-1" strike="noStrike" u="sng">
                <a:solidFill>
                  <a:srgbClr val="f7d47d"/>
                </a:solidFill>
                <a:uFillTx/>
                <a:latin typeface="Arial"/>
              </a:rPr>
              <a:t>learn the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prot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gh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or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over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4643280" y="1684440"/>
            <a:ext cx="20894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7d47d"/>
                </a:solidFill>
                <a:uFillTx/>
                <a:latin typeface="ABC font"/>
              </a:rPr>
              <a:t>Thes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BC font"/>
              </a:rPr>
              <a:t>ie</a:t>
            </a:r>
            <a:r>
              <a:rPr b="0" lang="en-GB" sz="3200" spc="-1" strike="noStrike" u="sng">
                <a:solidFill>
                  <a:srgbClr val="f7d47d"/>
                </a:solidFill>
                <a:uFillTx/>
                <a:latin typeface="ABC font"/>
              </a:rPr>
              <a:t> words are straight forward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l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l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l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Handker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Mis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A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s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Mantelp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P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sh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7d47d"/>
                </a:solidFill>
                <a:latin typeface="ABC font"/>
              </a:rPr>
              <a:t>Now wipe boards and pens at the ready? Scan the text and spot all the </a:t>
            </a: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ie/ei</a:t>
            </a:r>
            <a:r>
              <a:rPr b="0" lang="en-GB" sz="2400" spc="-1" strike="noStrike">
                <a:solidFill>
                  <a:srgbClr val="f7d47d"/>
                </a:solidFill>
                <a:latin typeface="ABC font"/>
              </a:rPr>
              <a:t> words you can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Brief Sie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Mrs Elizabeth Carver, niece of the Chief of Police, was besieged by wasps in her home yesterday. A ceiling fell down and knocked off an old mantelpiece. Hundreds of wasps flew ou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She shielded her face with a handkerchief and dialled 999. She gave a piercing shriek into the pho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Send the police. Believe me, these wasps will kill me if you don’t.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The Chief of Police received the call and rushed to relieve he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7d47d"/>
                </a:solidFill>
                <a:uFillTx/>
                <a:latin typeface="Arial"/>
              </a:rPr>
              <a:t>Well how did you do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2f1311"/>
                </a:solidFill>
                <a:uFillTx/>
                <a:latin typeface="ABC font"/>
              </a:rPr>
              <a:t>There were 12 in al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Nie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Chie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besieg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Ceil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Mantelpie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Shield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Handkerchie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Pierc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Shrie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Belie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Receiv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Relie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Well done if you got them all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4356000" y="1628640"/>
            <a:ext cx="290664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21:54:59Z</dcterms:created>
  <dc:creator>Jane Armstrong</dc:creator>
  <dc:description/>
  <dc:language>en-US</dc:language>
  <cp:lastModifiedBy>Jane Armstrong</cp:lastModifiedBy>
  <dcterms:modified xsi:type="dcterms:W3CDTF">2005-01-01T22:30:28Z</dcterms:modified>
  <cp:revision>1</cp:revision>
  <dc:subject/>
  <dc:title>ie and ei words</dc:title>
</cp:coreProperties>
</file>