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7E50-6BE1-413C-8487-E7372268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E60A-4E9C-4FE2-B578-FED5545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B12F-393B-4116-83A9-C00A424F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96E0-D02A-4833-B9E7-7225F427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99D0-3735-40AD-AC88-5AB80A57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9BAF-CE4A-4FF0-9665-BA7DB7D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9305-1A63-453D-80C2-8C298677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23ED-BD8D-4E4A-BA74-906C5D02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0C14-32AA-4878-83F6-88AE238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0F3B-6942-4945-8B31-C3DDDCCE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8613-5AAF-4C51-8383-980D2FE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B1B9E-E54B-40AE-B72D-1ADDBE24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F75-6D6F-4794-9B75-743558A7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C49B-9D9C-44F7-9618-46272401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BDE0-2015-4786-9209-E6E44993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70B2-D459-4CC7-8075-85AFF685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2E9D-92CD-462B-BB12-00419836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237D-4D04-4791-AEB8-084E7355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4725-74C9-44E5-97AC-072C6156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763A-CD3F-430F-97BF-D74042F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4108-4EAD-4ECA-B016-9F8E99F1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869B-29EF-4014-B4ED-ACB2AF5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465C-7278-4C5D-A5F8-3E9E518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E2D5-1011-4A75-8723-B46CF07C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653F-518D-4CFD-ADB2-1A0727D00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CDD-2A78-470D-AF1A-539AAA4E7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ords that contain unstressed vow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we remember the spellings of these tricky word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84720" y="549000"/>
            <a:ext cx="2735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milia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tation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mpa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fini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righten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hospit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jewell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tera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esseng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tation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mprom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finite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eas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im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epara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volunt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ott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epa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23050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explan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lat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wi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arvell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bom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t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87280" y="476280"/>
            <a:ext cx="287964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is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ois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af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em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ed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s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heave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171612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8560" y="47628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56844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ing your list of tricky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 the words into the following categories – ending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that contai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root words for as many of the words as you c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words with prefix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words with suffi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9:17:50Z</dcterms:created>
  <dc:creator>Jane Armstrong</dc:creator>
  <dc:description/>
  <dc:language>en-US</dc:language>
  <cp:lastModifiedBy>Jane Armstrong</cp:lastModifiedBy>
  <dcterms:modified xsi:type="dcterms:W3CDTF">2005-06-07T07:09:47Z</dcterms:modified>
  <cp:revision>2</cp:revision>
  <dc:subject/>
  <dc:title>Words that contain unstressed vowels</dc:title>
</cp:coreProperties>
</file>