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E43-45DE-481D-A9C1-FA824FA0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1D8-5513-433D-A29B-14B1C6A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841-1911-4925-AF94-CE88C63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44D-852A-4657-AEA8-8B1C2401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AE72-519D-43F6-B2FF-CEDD9607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F3B8-97FA-4C94-8FD8-5F7D0B1E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F11E-412A-45EA-A8B9-4237FD08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29DE-5E27-48E9-A993-D969020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317F-67C1-4854-BE80-9E8245A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9530-251E-428E-AE5F-6430D02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CE16-EFE5-4855-ABB3-2AD3A93E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C62-728B-49C5-BD67-7AFB4EB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BFD-C092-4D4A-AF27-C6DEBF3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812-2388-494B-BB9B-8B61F0D4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FB6B-2287-4639-8AAE-8D991CA0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0DEC-CCAC-4A3F-ACE3-8CEFEB0E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348F-A5A9-4CDD-85B5-F1C5DFC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86C-EF64-4DEB-A79F-7A786DDA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292-281F-43AD-98AC-D9E54B8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12F-6668-4183-A497-4932AF05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750-6F87-4281-B81A-772BE924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006-AC9A-41FA-AA8B-465D6C4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6AA-E276-4F2D-875A-FAE1374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7CC1-70E1-40F3-BD96-F6758EC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BDC-3D07-4C74-B0A5-026A42865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EC0-102E-4910-B31C-B055A1595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cosyn.us/ecocity/Challenges/drought/9-drought.JPG&amp;imgrefurl=http://www.ecosyn.us/ecocity/Challenges/drought/&amp;h=238&amp;w=200&amp;sz=59&amp;tbnid=6nXMVObJFO8J:&amp;tbnh=103&amp;tbnw=87&amp;start=1&amp;prev=/images%3Fq%3Ddrought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dayinmylife.locotek.com/photos/thoughtful.jpg&amp;imgrefurl=http://adayinmylife.locotek.com/archives/000390.PHP&amp;h=428&amp;w=346&amp;sz=13&amp;tbnid=E_zB4C-AqX4J:&amp;tbnh=121&amp;tbnw=98&amp;start=38&amp;prev=/images%3Fq%3Dthoughtful%26start%3D20%26hl%3Den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cat.edu/~childres/doug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BC font"/>
              </a:rPr>
              <a:t>The case of the grapheme --</a:t>
            </a:r>
            <a:r>
              <a:rPr b="0" lang="en-GB" sz="4600" spc="-1" strike="noStrike">
                <a:solidFill>
                  <a:srgbClr val="ff6600"/>
                </a:solidFill>
                <a:latin typeface="ABC font"/>
              </a:rPr>
              <a:t>oug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A letter string that has many phoneme sounds- let’s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First let’s see how many you can spot. Wipe boards and pens at the read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6267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BC font"/>
              </a:rPr>
              <a:t>Drought Throughout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rain has fallen in England for the last eighteen weeks. There is not enough water for washing and cleaning, although through careful controls, drinking supplies remain. Still Asda is making a roaring trade in bottled water. Shoppers have even fought over bottles and bought as many as restrictions would al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rmers cannot plough land because it is too dry and pig troughs have to be filled by hand. Life is decidedly rough for the farmers throughout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Thoughtless people are wasting water by allowing taps to drip. Neighbours are asked to remind each other of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foreign visitors may enter the country until the drought is 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484280"/>
            <a:ext cx="166536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773360"/>
            <a:ext cx="18079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4826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Al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d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2060640"/>
            <a:ext cx="1384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Drou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Pl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b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036880"/>
            <a:ext cx="40323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80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BC font"/>
              </a:rPr>
              <a:t>And finally what about thes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Can you remember all 6 phoneme sounds that can be made with the grapheme ou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 as in capital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 as in 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u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O as in m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o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an you think of examples for each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22:31Z</dcterms:created>
  <dc:creator>Jane Armstrong</dc:creator>
  <dc:description/>
  <dc:language>en-US</dc:language>
  <cp:lastModifiedBy>Jane Armstrong</cp:lastModifiedBy>
  <dcterms:modified xsi:type="dcterms:W3CDTF">2005-01-01T21:51:22Z</dcterms:modified>
  <cp:revision>1</cp:revision>
  <dc:subject/>
  <dc:title>The case of the grapheme --ough</dc:title>
</cp:coreProperties>
</file>