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24.wmf" ContentType="image/x-wmf"/>
  <Override PartName="/ppt/media/image7.wmf" ContentType="image/x-wmf"/>
  <Override PartName="/ppt/media/image32.wmf" ContentType="image/x-wmf"/>
  <Override PartName="/ppt/media/image8.wmf" ContentType="image/x-wmf"/>
  <Override PartName="/ppt/media/image33.wmf" ContentType="image/x-wmf"/>
  <Override PartName="/ppt/media/image9.png" ContentType="image/png"/>
  <Override PartName="/ppt/media/image17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breeze.wav" ContentType="audio/x-wav"/>
  <Override PartName="/ppt/media/image10.png" ContentType="image/png"/>
  <Override PartName="/ppt/media/image29.wmf" ContentType="image/x-wmf"/>
  <Override PartName="/ppt/media/image36.wmf" ContentType="image/x-wmf"/>
  <Override PartName="/ppt/media/image6.wmf" ContentType="image/x-wmf"/>
  <Override PartName="/ppt/media/image35.wmf" ContentType="image/x-wmf"/>
  <Override PartName="/ppt/media/coin.wav" ContentType="audio/x-wav"/>
  <Override PartName="/ppt/media/applause.wav" ContentType="audio/x-wav"/>
  <Override PartName="/ppt/media/image5.png" ContentType="image/png"/>
  <Override PartName="/ppt/media/image13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zoomin.wav" ContentType="audio/x-wav"/>
  <Override PartName="/ppt/media/image3.png" ContentType="image/png"/>
  <Override PartName="/ppt/media/image11.wmf" ContentType="image/x-wmf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audio" Target="../media/breeze.wav"/><Relationship Id="rId20" Type="http://schemas.openxmlformats.org/officeDocument/2006/relationships/audio" Target="../media/zoomin.wav"/><Relationship Id="rId21" Type="http://schemas.openxmlformats.org/officeDocument/2006/relationships/audio" Target="../media/coin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hyperlink" Target="file:///tmp/home/.config/libreoffice/4/user/gallery/be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tmp/home/.config/libreoffice/4/user/gallery/boy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tmp/home/.config/libreoffice/4/user/gallery/dig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file:///tmp/home/.config/libreoffice/4/user/gallery/red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file:///tmp/home/.config/libreoffice/4/user/gallery/yellow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file:///tmp/home/.config/libreoffice/4/user/gallery/blue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file:///tmp/home/.config/libreoffice/4/user/gallery/green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file:///tmp/home/.config/libreoffice/4/user/gallery/pink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file:///tmp/home/.config/libreoffice/4/user/gallery/brown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file:///tmp/home/.config/libreoffice/4/user/gallery/black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file:///tmp/home/.config/libreoffice/4/user/gallery/white_wh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5.wmf"/><Relationship Id="rId3" Type="http://schemas.openxmlformats.org/officeDocument/2006/relationships/hyperlink" Target="file:///tmp/home/.config/libreoffice/4/user/gallery/grey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file:///tmp/home/.config/libreoffice/4/user/gallery/man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saw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six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mp/home/.config/libreoffice/4/user/gallery/ten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tmp/home/.config/libreoffice/4/user/gallery/bee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back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ball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r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wmf"/><Relationship Id="rId3" Type="http://schemas.openxmlformats.org/officeDocument/2006/relationships/hyperlink" Target="file:///tmp/home/.config/libreoffice/4/user/gallery/five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tmp/home/.config/libreoffice/4/user/gallery/girl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nine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file:///tmp/home/.config/libreoffice/4/user/gallery/tree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ff"/>
                </a:solidFill>
                <a:latin typeface="Comic Sans MS"/>
              </a:rPr>
              <a:t>Year 1 &amp; 2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-2043000"/>
            <a:ext cx="1734840" cy="17254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724360" y="5373720"/>
            <a:ext cx="2765520" cy="879840"/>
            <a:chOff x="5724360" y="5373720"/>
            <a:chExt cx="2765520" cy="87984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7885080" y="5373720"/>
              <a:ext cx="604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724360" y="5516640"/>
              <a:ext cx="2089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Dave Bryant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Northwood Primary Sch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916360" y="6165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9640" y="3500280"/>
            <a:ext cx="3168720" cy="2627640"/>
            <a:chOff x="539640" y="3500280"/>
            <a:chExt cx="3168720" cy="262764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39640" y="3500280"/>
              <a:ext cx="1511280" cy="26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908000" y="5516640"/>
              <a:ext cx="18003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Click or press ‘Return’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to change sc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484360" y="3429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2880" y="634356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227240" y="6343560"/>
            <a:ext cx="3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635120" y="634356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2052720" y="6343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2492280" y="6343560"/>
            <a:ext cx="3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2905200" y="634356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3303720" y="6343560"/>
            <a:ext cx="3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3705120" y="6343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1" action="ppaction://hlinksldjump"/>
          </p:cNvPr>
          <p:cNvSpPr/>
          <p:nvPr/>
        </p:nvSpPr>
        <p:spPr>
          <a:xfrm>
            <a:off x="4124160" y="63435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2" action="ppaction://hlinksldjump"/>
          </p:cNvPr>
          <p:cNvSpPr/>
          <p:nvPr/>
        </p:nvSpPr>
        <p:spPr>
          <a:xfrm>
            <a:off x="4508640" y="634356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3" action="ppaction://hlinksldjump"/>
          </p:cNvPr>
          <p:cNvSpPr/>
          <p:nvPr/>
        </p:nvSpPr>
        <p:spPr>
          <a:xfrm>
            <a:off x="5016600" y="63435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4" action="ppaction://hlinksldjump"/>
          </p:cNvPr>
          <p:cNvSpPr/>
          <p:nvPr/>
        </p:nvSpPr>
        <p:spPr>
          <a:xfrm>
            <a:off x="5510160" y="63435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27228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In t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6753240" y="634356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8242200" y="63435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7" action="ppaction://hlinksldjump"/>
          </p:cNvPr>
          <p:cNvSpPr/>
          <p:nvPr/>
        </p:nvSpPr>
        <p:spPr>
          <a:xfrm>
            <a:off x="7534440" y="63435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col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6043680" y="634356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SassoonPrimaryInfant"/>
              </a:rPr>
              <a:t>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animMotion origin="layout" path="M 0.07847 0.04184 L 0.36979 0.33564 E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oom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u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7040" y="4941720"/>
            <a:ext cx="1326960" cy="111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afte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rot="17095800">
            <a:off x="6445080" y="1195200"/>
            <a:ext cx="982800" cy="9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agai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 rot="17095800">
            <a:off x="6373800" y="1123560"/>
            <a:ext cx="982800" cy="985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coul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17095800">
            <a:off x="6302520" y="1050120"/>
            <a:ext cx="982440" cy="986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eigh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 rot="17095800">
            <a:off x="6229080" y="979200"/>
            <a:ext cx="982800" cy="986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firs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rot="19467600">
            <a:off x="1763640" y="580500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hous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 rot="19467600">
            <a:off x="1619280" y="566064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laugh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 rot="19467600">
            <a:off x="1476360" y="551628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live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 rot="19467600">
            <a:off x="1332000" y="537336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nigh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 rot="19467600">
            <a:off x="1187280" y="522900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sev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 rot="19849800">
            <a:off x="1042560" y="508428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81080" y="1700280"/>
            <a:ext cx="9396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ff"/>
                </a:solidFill>
                <a:latin typeface="SassoonPrimaryInfant"/>
              </a:rPr>
              <a:t>b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8320" y="4869000"/>
            <a:ext cx="1327320" cy="111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4797360"/>
            <a:ext cx="696600" cy="107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thei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 rot="19849800">
            <a:off x="971280" y="494136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ther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 rot="19849800">
            <a:off x="826560" y="472392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thes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 rot="20340000">
            <a:off x="755640" y="4508640"/>
            <a:ext cx="1041480" cy="599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00cc"/>
                </a:solidFill>
                <a:latin typeface="SassoonPrimaryInfant"/>
              </a:rPr>
              <a:t>thre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 rot="20340000">
            <a:off x="755640" y="4365720"/>
            <a:ext cx="1041480" cy="600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wate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 rot="7614600">
            <a:off x="335520" y="465480"/>
            <a:ext cx="9572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16000" y="1700280"/>
            <a:ext cx="8820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wher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 rot="7614600">
            <a:off x="651240" y="732240"/>
            <a:ext cx="9572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700280"/>
            <a:ext cx="8820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woul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 rot="7614600">
            <a:off x="938880" y="948240"/>
            <a:ext cx="957240" cy="69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calle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 rot="7614600">
            <a:off x="1154520" y="1163880"/>
            <a:ext cx="957240" cy="692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1700280"/>
            <a:ext cx="90360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500" spc="-1" strike="noStrike">
                <a:solidFill>
                  <a:srgbClr val="cc0000"/>
                </a:solidFill>
                <a:latin typeface="SassoonPrimaryInfant"/>
              </a:rPr>
              <a:t>eleven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 rot="6849600">
            <a:off x="1370520" y="1164240"/>
            <a:ext cx="957240" cy="692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1700280"/>
            <a:ext cx="903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littl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 rot="6034800">
            <a:off x="1586520" y="1164240"/>
            <a:ext cx="957240" cy="691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boy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3959600">
            <a:off x="7903800" y="314280"/>
            <a:ext cx="89712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4797360"/>
            <a:ext cx="696600" cy="1077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16000" y="1700280"/>
            <a:ext cx="8820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500" spc="-1" strike="noStrike">
                <a:solidFill>
                  <a:srgbClr val="cc0000"/>
                </a:solidFill>
                <a:latin typeface="SassoonPrimaryInfant"/>
              </a:rPr>
              <a:t>people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 rot="5749800">
            <a:off x="1801800" y="1163880"/>
            <a:ext cx="957240" cy="692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16000" y="1700280"/>
            <a:ext cx="88200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500" spc="-1" strike="noStrike">
                <a:solidFill>
                  <a:srgbClr val="cc0000"/>
                </a:solidFill>
                <a:latin typeface="SassoonPrimaryInfant"/>
              </a:rPr>
              <a:t>school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 rot="5749800">
            <a:off x="2017800" y="1163880"/>
            <a:ext cx="957240" cy="692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1700280"/>
            <a:ext cx="90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00"/>
                </a:solidFill>
                <a:latin typeface="SassoonPrimaryInfant"/>
              </a:rPr>
              <a:t>sh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 rot="5749800">
            <a:off x="2090880" y="1163880"/>
            <a:ext cx="957240" cy="692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siste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 rot="4941000">
            <a:off x="1443960" y="824760"/>
            <a:ext cx="957240" cy="6919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1700280"/>
            <a:ext cx="903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twel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16000" y="1700280"/>
            <a:ext cx="8820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0" spc="-1" strike="noStrike">
                <a:solidFill>
                  <a:srgbClr val="cc0000"/>
                </a:solidFill>
                <a:latin typeface="SassoonPrimaryInfant"/>
              </a:rPr>
              <a:t>twenty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1700280"/>
            <a:ext cx="9036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cc0000"/>
                </a:solidFill>
                <a:latin typeface="SassoonPrimaryInfant"/>
              </a:rPr>
              <a:t>another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1700280"/>
            <a:ext cx="903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cc0000"/>
                </a:solidFill>
                <a:latin typeface="SassoonPrimaryInfant"/>
              </a:rPr>
              <a:t>becaus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16000" y="170028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cc0000"/>
                </a:solidFill>
                <a:latin typeface="SassoonPrimaryInfant"/>
              </a:rPr>
              <a:t>broth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y certifi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69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 can read         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ate: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7885080" y="3500280"/>
            <a:ext cx="957240" cy="26164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722520" cy="16984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1368720" cy="13431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1265400" cy="1512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 rot="20700000">
            <a:off x="394920" y="1988640"/>
            <a:ext cx="1514520" cy="23050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2289240" cy="21794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4500720" y="1700280"/>
            <a:ext cx="403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2816280"/>
            <a:ext cx="151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3932280"/>
            <a:ext cx="1942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04000" y="630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nt and write in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11280" y="5661000"/>
            <a:ext cx="28814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ear 1 / 2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omic Sans MS"/>
              </a:rPr>
              <a:t>out of 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7020000" y="4149720"/>
            <a:ext cx="9349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bu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13959600">
            <a:off x="7830720" y="351720"/>
            <a:ext cx="896760" cy="93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16000" y="1700280"/>
            <a:ext cx="8820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cc0000"/>
                </a:solidFill>
                <a:latin typeface="SassoonPrimaryInfant"/>
              </a:rPr>
              <a:t>Monday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170028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cc0000"/>
                </a:solidFill>
                <a:latin typeface="SassoonPrimaryInfant"/>
              </a:rPr>
              <a:t>Tuesda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1700280"/>
            <a:ext cx="9036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cc0000"/>
                </a:solidFill>
                <a:latin typeface="SassoonPrimaryInfant"/>
              </a:rPr>
              <a:t>Wednesday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1700280"/>
            <a:ext cx="90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cc0000"/>
                </a:solidFill>
                <a:latin typeface="SassoonPrimaryInfant"/>
              </a:rPr>
              <a:t>Thursda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16000" y="1700280"/>
            <a:ext cx="8820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cc0000"/>
                </a:solidFill>
                <a:latin typeface="SassoonPrimaryInfant"/>
              </a:rPr>
              <a:t>Friday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1700280"/>
            <a:ext cx="9036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cc0000"/>
                </a:solidFill>
                <a:latin typeface="SassoonPrimaryInfant"/>
              </a:rPr>
              <a:t>Saturday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16000" y="1700280"/>
            <a:ext cx="8820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cc0000"/>
                </a:solidFill>
                <a:latin typeface="SassoonPrimaryInfant"/>
              </a:rPr>
              <a:t>Sunday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17080" y="404640"/>
            <a:ext cx="357120" cy="540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16000" y="1700280"/>
            <a:ext cx="8820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ff"/>
                </a:solidFill>
                <a:latin typeface="SassoonPrimaryInfant"/>
              </a:rPr>
              <a:t>January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16000" y="170028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ff"/>
                </a:solidFill>
                <a:latin typeface="SassoonPrimaryInfant"/>
              </a:rPr>
              <a:t>February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Mar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di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13959600">
            <a:off x="7759440" y="424800"/>
            <a:ext cx="896760" cy="93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Apri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0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M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Jun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Jul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16000" y="1700280"/>
            <a:ext cx="882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SassoonPrimaryInfant"/>
              </a:rPr>
              <a:t>Augu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700280"/>
            <a:ext cx="903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ff"/>
                </a:solidFill>
                <a:latin typeface="SassoonPrimaryInfant"/>
              </a:rPr>
              <a:t>September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6000" y="1700280"/>
            <a:ext cx="8820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ff"/>
                </a:solidFill>
                <a:latin typeface="SassoonPrimaryInfant"/>
              </a:rPr>
              <a:t>October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1700280"/>
            <a:ext cx="90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ff"/>
                </a:solidFill>
                <a:latin typeface="SassoonPrimaryInfant"/>
              </a:rPr>
              <a:t>Novemb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0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16000" y="1700280"/>
            <a:ext cx="8820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ff"/>
                </a:solidFill>
                <a:latin typeface="SassoonPrimaryInfant"/>
              </a:rPr>
              <a:t>December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17080" y="404640"/>
            <a:ext cx="35712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on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0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700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336600"/>
                </a:solidFill>
                <a:latin typeface="SassoonPrimaryInfant"/>
              </a:rPr>
              <a:t>di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13959600">
            <a:off x="7686360" y="496800"/>
            <a:ext cx="897120" cy="93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4797360"/>
            <a:ext cx="696600" cy="107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tw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16000" y="1700280"/>
            <a:ext cx="882000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thre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fou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2411280" y="765000"/>
            <a:ext cx="75276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0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fiv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18748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3027240" y="765000"/>
            <a:ext cx="75276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six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18748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302724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367524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16000" y="1700280"/>
            <a:ext cx="882000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seve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2733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44800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18604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30369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6"/>
          <a:stretch/>
        </p:blipFill>
        <p:spPr>
          <a:xfrm>
            <a:off x="362412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421164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eight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12733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44800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18604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5"/>
          <a:stretch/>
        </p:blipFill>
        <p:spPr>
          <a:xfrm>
            <a:off x="30369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6"/>
          <a:stretch/>
        </p:blipFill>
        <p:spPr>
          <a:xfrm>
            <a:off x="362412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7"/>
          <a:stretch/>
        </p:blipFill>
        <p:spPr>
          <a:xfrm>
            <a:off x="421164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8"/>
          <a:stretch/>
        </p:blipFill>
        <p:spPr>
          <a:xfrm>
            <a:off x="478800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0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nin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7332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44800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86048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tretch/>
        </p:blipFill>
        <p:spPr>
          <a:xfrm>
            <a:off x="303696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3624120" y="76500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7"/>
          <a:stretch/>
        </p:blipFill>
        <p:spPr>
          <a:xfrm>
            <a:off x="421164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8"/>
          <a:stretch/>
        </p:blipFill>
        <p:spPr>
          <a:xfrm>
            <a:off x="4788000" y="76500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9"/>
          <a:stretch/>
        </p:blipFill>
        <p:spPr>
          <a:xfrm>
            <a:off x="5435640" y="76500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16000" y="1700280"/>
            <a:ext cx="882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cc0000"/>
                </a:solidFill>
                <a:latin typeface="SassoonPrimaryInfant"/>
              </a:rPr>
              <a:t>te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220500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elev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go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13959600">
            <a:off x="7615080" y="567720"/>
            <a:ext cx="896760" cy="934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234936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00"/>
                </a:solidFill>
                <a:latin typeface="SassoonPrimaryInfant"/>
              </a:rPr>
              <a:t>twel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79280" y="2749680"/>
            <a:ext cx="8820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500" spc="-1" strike="noStrike">
                <a:solidFill>
                  <a:srgbClr val="cc0000"/>
                </a:solidFill>
                <a:latin typeface="SassoonPrimaryInfant"/>
              </a:rPr>
              <a:t>thirteen</a:t>
            </a:r>
            <a:endParaRPr b="0" lang="en-US" sz="1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3"/>
          <a:stretch/>
        </p:blipFill>
        <p:spPr>
          <a:xfrm>
            <a:off x="255600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0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2749680"/>
            <a:ext cx="89996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cc0000"/>
                </a:solidFill>
                <a:latin typeface="SassoonPrimaryInfant"/>
              </a:rPr>
              <a:t>fourteen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3"/>
          <a:stretch/>
        </p:blipFill>
        <p:spPr>
          <a:xfrm>
            <a:off x="2556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14"/>
          <a:stretch/>
        </p:blipFill>
        <p:spPr>
          <a:xfrm>
            <a:off x="3132000" y="1628640"/>
            <a:ext cx="75276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79280" y="2749680"/>
            <a:ext cx="88203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>
                <a:solidFill>
                  <a:srgbClr val="cc0000"/>
                </a:solidFill>
                <a:latin typeface="SassoonPrimaryInfant"/>
              </a:rPr>
              <a:t>fiftee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3"/>
          <a:stretch/>
        </p:blipFill>
        <p:spPr>
          <a:xfrm>
            <a:off x="2556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14"/>
          <a:stretch/>
        </p:blipFill>
        <p:spPr>
          <a:xfrm>
            <a:off x="313200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15"/>
          <a:stretch/>
        </p:blipFill>
        <p:spPr>
          <a:xfrm>
            <a:off x="3747960" y="1628640"/>
            <a:ext cx="75276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79280" y="2749680"/>
            <a:ext cx="88203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>
                <a:solidFill>
                  <a:srgbClr val="cc0000"/>
                </a:solidFill>
                <a:latin typeface="SassoonPrimaryInfant"/>
              </a:rPr>
              <a:t>sixtee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13"/>
          <a:stretch/>
        </p:blipFill>
        <p:spPr>
          <a:xfrm>
            <a:off x="2556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14"/>
          <a:stretch/>
        </p:blipFill>
        <p:spPr>
          <a:xfrm>
            <a:off x="313200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15"/>
          <a:stretch/>
        </p:blipFill>
        <p:spPr>
          <a:xfrm>
            <a:off x="374796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16"/>
          <a:stretch/>
        </p:blipFill>
        <p:spPr>
          <a:xfrm>
            <a:off x="432432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79280" y="2749680"/>
            <a:ext cx="882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500" spc="-1" strike="noStrike">
                <a:solidFill>
                  <a:srgbClr val="cc0000"/>
                </a:solidFill>
                <a:latin typeface="SassoonPrimaryInfant"/>
              </a:rPr>
              <a:t>seventeen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1"/>
          <a:stretch/>
        </p:blipFill>
        <p:spPr>
          <a:xfrm>
            <a:off x="1332000" y="16444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2"/>
          <a:stretch/>
        </p:blipFill>
        <p:spPr>
          <a:xfrm>
            <a:off x="19479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3"/>
          <a:stretch/>
        </p:blipFill>
        <p:spPr>
          <a:xfrm>
            <a:off x="2556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4"/>
          <a:stretch/>
        </p:blipFill>
        <p:spPr>
          <a:xfrm>
            <a:off x="313200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5"/>
          <a:stretch/>
        </p:blipFill>
        <p:spPr>
          <a:xfrm>
            <a:off x="374796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6"/>
          <a:stretch/>
        </p:blipFill>
        <p:spPr>
          <a:xfrm>
            <a:off x="432432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7"/>
          <a:stretch/>
        </p:blipFill>
        <p:spPr>
          <a:xfrm>
            <a:off x="493236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79280" y="2749680"/>
            <a:ext cx="882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c0000"/>
                </a:solidFill>
                <a:latin typeface="SassoonPrimaryInfant"/>
              </a:rPr>
              <a:t>eighte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11"/>
          <a:stretch/>
        </p:blipFill>
        <p:spPr>
          <a:xfrm>
            <a:off x="1332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93500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3"/>
          <a:stretch/>
        </p:blipFill>
        <p:spPr>
          <a:xfrm>
            <a:off x="253692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4"/>
          <a:stretch/>
        </p:blipFill>
        <p:spPr>
          <a:xfrm>
            <a:off x="313992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5"/>
          <a:stretch/>
        </p:blipFill>
        <p:spPr>
          <a:xfrm>
            <a:off x="374184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16"/>
          <a:stretch/>
        </p:blipFill>
        <p:spPr>
          <a:xfrm>
            <a:off x="434484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7"/>
          <a:stretch/>
        </p:blipFill>
        <p:spPr>
          <a:xfrm>
            <a:off x="49467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8"/>
          <a:stretch/>
        </p:blipFill>
        <p:spPr>
          <a:xfrm>
            <a:off x="554832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0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79280" y="2749680"/>
            <a:ext cx="882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c0000"/>
                </a:solidFill>
                <a:latin typeface="SassoonPrimaryInfant"/>
              </a:rPr>
              <a:t>ninete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11"/>
          <a:stretch/>
        </p:blipFill>
        <p:spPr>
          <a:xfrm>
            <a:off x="133200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12"/>
          <a:stretch/>
        </p:blipFill>
        <p:spPr>
          <a:xfrm>
            <a:off x="193500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3"/>
          <a:stretch/>
        </p:blipFill>
        <p:spPr>
          <a:xfrm>
            <a:off x="253692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4"/>
          <a:stretch/>
        </p:blipFill>
        <p:spPr>
          <a:xfrm>
            <a:off x="313992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15"/>
          <a:stretch/>
        </p:blipFill>
        <p:spPr>
          <a:xfrm>
            <a:off x="374184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6"/>
          <a:stretch/>
        </p:blipFill>
        <p:spPr>
          <a:xfrm>
            <a:off x="4344840" y="1628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7"/>
          <a:stretch/>
        </p:blipFill>
        <p:spPr>
          <a:xfrm>
            <a:off x="494676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8"/>
          <a:stretch/>
        </p:blipFill>
        <p:spPr>
          <a:xfrm>
            <a:off x="5548320" y="1628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9"/>
          <a:stretch/>
        </p:blipFill>
        <p:spPr>
          <a:xfrm>
            <a:off x="6195960" y="1628640"/>
            <a:ext cx="7524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79280" y="2749680"/>
            <a:ext cx="88203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00"/>
                </a:solidFill>
                <a:latin typeface="SassoonPrimaryInfant"/>
              </a:rPr>
              <a:t>twent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3557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9558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31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25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3755880" y="83664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6"/>
          <a:stretch/>
        </p:blipFill>
        <p:spPr>
          <a:xfrm>
            <a:off x="435600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7"/>
          <a:stretch/>
        </p:blipFill>
        <p:spPr>
          <a:xfrm>
            <a:off x="495612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8"/>
          <a:stretch/>
        </p:blipFill>
        <p:spPr>
          <a:xfrm>
            <a:off x="555624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9"/>
          <a:stretch/>
        </p:blipFill>
        <p:spPr>
          <a:xfrm>
            <a:off x="615636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10"/>
          <a:stretch/>
        </p:blipFill>
        <p:spPr>
          <a:xfrm>
            <a:off x="6756480" y="8366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1"/>
          <a:stretch/>
        </p:blipFill>
        <p:spPr>
          <a:xfrm>
            <a:off x="133200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2"/>
          <a:stretch/>
        </p:blipFill>
        <p:spPr>
          <a:xfrm>
            <a:off x="193212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3"/>
          <a:stretch/>
        </p:blipFill>
        <p:spPr>
          <a:xfrm>
            <a:off x="3132000" y="1700280"/>
            <a:ext cx="752760" cy="70488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4"/>
          <a:stretch/>
        </p:blipFill>
        <p:spPr>
          <a:xfrm>
            <a:off x="253224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5"/>
          <a:stretch/>
        </p:blipFill>
        <p:spPr>
          <a:xfrm>
            <a:off x="373212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6"/>
          <a:stretch/>
        </p:blipFill>
        <p:spPr>
          <a:xfrm>
            <a:off x="433224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7"/>
          <a:stretch/>
        </p:blipFill>
        <p:spPr>
          <a:xfrm>
            <a:off x="493236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8"/>
          <a:stretch/>
        </p:blipFill>
        <p:spPr>
          <a:xfrm>
            <a:off x="553248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19"/>
          <a:stretch/>
        </p:blipFill>
        <p:spPr>
          <a:xfrm>
            <a:off x="613260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0"/>
          <a:stretch/>
        </p:blipFill>
        <p:spPr>
          <a:xfrm>
            <a:off x="6732720" y="170028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>
            <a:hlinkClick r:id="" action="ppaction://hlinkshowjump?jump=firstslide"/>
          </p:cNvPr>
          <p:cNvPicPr/>
          <p:nvPr/>
        </p:nvPicPr>
        <p:blipFill>
          <a:blip r:embed="rId21"/>
          <a:stretch/>
        </p:blipFill>
        <p:spPr>
          <a:xfrm>
            <a:off x="8317080" y="404640"/>
            <a:ext cx="35712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0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00"/>
                </a:solidFill>
                <a:latin typeface="SassoonPrimaryInfant"/>
              </a:rPr>
              <a:t>r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0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a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13959600">
            <a:off x="7543440" y="641160"/>
            <a:ext cx="897120" cy="93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SassoonPrimaryInfant"/>
              </a:rPr>
              <a:t>yell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ff"/>
                </a:solidFill>
                <a:latin typeface="SassoonPrimaryInfant"/>
              </a:rPr>
              <a:t>blu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79280" y="1657440"/>
            <a:ext cx="88203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6600"/>
                </a:solidFill>
                <a:latin typeface="SassoonPrimaryInfant"/>
              </a:rPr>
              <a:t>orang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2062080" cy="20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8000"/>
                </a:solidFill>
                <a:latin typeface="SassoonPrimaryInfant"/>
              </a:rPr>
              <a:t>gre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66"/>
                </a:solidFill>
                <a:latin typeface="SassoonPrimaryInfant"/>
              </a:rPr>
              <a:t>purpl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95ff"/>
                </a:solidFill>
                <a:latin typeface="SassoonPrimaryInfant"/>
              </a:rPr>
              <a:t>pin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062080" cy="206244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966432"/>
                </a:solidFill>
                <a:latin typeface="SassoonPrimaryInfant"/>
              </a:rPr>
              <a:t>brow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3492360" y="4365720"/>
            <a:ext cx="2062440" cy="2062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SassoonPrimaryInfant"/>
              </a:rPr>
              <a:t>blac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3780000" y="443700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0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SassoonPrimaryInfant"/>
              </a:rPr>
              <a:t>whi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0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79280" y="1657440"/>
            <a:ext cx="882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808080"/>
                </a:solidFill>
                <a:latin typeface="SassoonPrimaryInfant"/>
              </a:rPr>
              <a:t>gre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395280" y="5805360"/>
            <a:ext cx="357120" cy="5400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3635280" y="4221000"/>
            <a:ext cx="2062080" cy="206244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0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as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13959600">
            <a:off x="7470360" y="712080"/>
            <a:ext cx="896760" cy="93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24000" y="148752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SassoonPrimaryInfant"/>
              </a:rPr>
              <a:t>Northw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324000" y="5950080"/>
            <a:ext cx="357120" cy="53964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3780000" y="148752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SassoonPrimaryInfant"/>
              </a:rPr>
              <a:t>Pri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2360" y="148752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SassoonPrimaryInfant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619280" y="26398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Wyatts</a:t>
            </a:r>
            <a:r>
              <a:rPr b="1" lang="en-US" sz="4800" spc="-1" strike="noStrike">
                <a:solidFill>
                  <a:srgbClr val="cc0000"/>
                </a:solidFill>
                <a:latin typeface="SassoonPrimaryTyp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0" y="263988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124000" y="3863880"/>
            <a:ext cx="51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Northw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16360" y="515952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Isle</a:t>
            </a:r>
            <a:r>
              <a:rPr b="1" lang="en-US" sz="6000" spc="-1" strike="noStrike">
                <a:solidFill>
                  <a:srgbClr val="cc0000"/>
                </a:solidFill>
                <a:latin typeface="SassoonPrimaryType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of</a:t>
            </a:r>
            <a:r>
              <a:rPr b="1" lang="en-US" sz="6000" spc="-1" strike="noStrike">
                <a:solidFill>
                  <a:srgbClr val="cc0000"/>
                </a:solidFill>
                <a:latin typeface="SassoonPrimaryType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SassoonPrimaryInfant"/>
              </a:rPr>
              <a:t>W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076400" cy="108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y certifi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69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 can read         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ate: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7885080" y="3500280"/>
            <a:ext cx="957240" cy="261648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722520" cy="169848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1368720" cy="134316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1265400" cy="15127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5"/>
          <a:stretch/>
        </p:blipFill>
        <p:spPr>
          <a:xfrm rot="20700000">
            <a:off x="394920" y="1988640"/>
            <a:ext cx="1514520" cy="2305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2289240" cy="217944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4500720" y="1700280"/>
            <a:ext cx="403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00720" y="2816280"/>
            <a:ext cx="151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500720" y="3932280"/>
            <a:ext cx="1942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04000" y="630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nt and write in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411280" y="5661000"/>
            <a:ext cx="28814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ear 1 / 2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omic Sans MS"/>
              </a:rPr>
              <a:t>out of 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7"/>
          <a:stretch/>
        </p:blipFill>
        <p:spPr>
          <a:xfrm>
            <a:off x="7020000" y="4149720"/>
            <a:ext cx="9349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e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13959600">
            <a:off x="7399080" y="784080"/>
            <a:ext cx="897120" cy="93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a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5516640"/>
            <a:ext cx="1326960" cy="111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im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3959600">
            <a:off x="7327800" y="857160"/>
            <a:ext cx="897120" cy="935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is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13959600">
            <a:off x="7254720" y="928080"/>
            <a:ext cx="89676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57120" cy="53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how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1837200">
            <a:off x="250560" y="197784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ma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1837200">
            <a:off x="323640" y="1915920"/>
            <a:ext cx="1368360" cy="946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4797360"/>
            <a:ext cx="696600" cy="107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may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rot="1837200">
            <a:off x="394920" y="184428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new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1837200">
            <a:off x="466200" y="1773360"/>
            <a:ext cx="1368720" cy="946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no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1837200">
            <a:off x="539280" y="169992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now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1837200">
            <a:off x="610920" y="1628280"/>
            <a:ext cx="1368360" cy="94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off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1837200">
            <a:off x="682200" y="155700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ol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837200">
            <a:off x="755280" y="148392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a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1960" y="5445000"/>
            <a:ext cx="1327320" cy="111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on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229000">
            <a:off x="826560" y="1413000"/>
            <a:ext cx="1368720" cy="94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336600"/>
                </a:solidFill>
                <a:latin typeface="SassoonPrimaryInfant"/>
              </a:rPr>
              <a:t>ou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rot="2901000">
            <a:off x="900000" y="134136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ou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9272600">
            <a:off x="7308360" y="5157360"/>
            <a:ext cx="1346400" cy="115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pu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rot="19272600">
            <a:off x="7235640" y="5084280"/>
            <a:ext cx="134604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ra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 rot="19272600">
            <a:off x="7164000" y="5013000"/>
            <a:ext cx="13464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saw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rot="19272600">
            <a:off x="7093080" y="4941360"/>
            <a:ext cx="1346040" cy="115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six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18952800">
            <a:off x="7020000" y="4868640"/>
            <a:ext cx="134604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t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479200">
            <a:off x="7092720" y="4724280"/>
            <a:ext cx="1158840" cy="1346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too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rot="2168400">
            <a:off x="6948000" y="4581360"/>
            <a:ext cx="1158840" cy="134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two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1734000">
            <a:off x="6804000" y="4508640"/>
            <a:ext cx="1158840" cy="1346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b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040" y="5373720"/>
            <a:ext cx="1327320" cy="111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4797360"/>
            <a:ext cx="696600" cy="1077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way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1025400">
            <a:off x="6659640" y="4603680"/>
            <a:ext cx="1158840" cy="1346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who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rot="562800">
            <a:off x="6372000" y="4603680"/>
            <a:ext cx="1158840" cy="1346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y certifi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69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 can read         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ate: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885080" y="3500280"/>
            <a:ext cx="957240" cy="2616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7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1368720" cy="134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1265400" cy="151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 rot="20700000">
            <a:off x="394920" y="1988640"/>
            <a:ext cx="1514520" cy="2305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2289240" cy="217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00720" y="1700280"/>
            <a:ext cx="403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816280"/>
            <a:ext cx="151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3932280"/>
            <a:ext cx="1942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630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nt and write in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661000"/>
            <a:ext cx="28814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ear 1 / 2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omic Sans MS"/>
              </a:rPr>
              <a:t>out of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020000" y="4149720"/>
            <a:ext cx="9349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back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3333000">
            <a:off x="356760" y="5556240"/>
            <a:ext cx="1079640" cy="714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ball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 rot="3333000">
            <a:off x="434520" y="5483160"/>
            <a:ext cx="1079640" cy="714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be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 rot="3333000">
            <a:off x="506160" y="5411880"/>
            <a:ext cx="1079280" cy="714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call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 rot="3333000">
            <a:off x="579240" y="5340240"/>
            <a:ext cx="1079640" cy="714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cam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rot="3333000">
            <a:off x="722160" y="5195880"/>
            <a:ext cx="1079640" cy="714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can’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 rot="3333000">
            <a:off x="794880" y="5124240"/>
            <a:ext cx="1079640" cy="714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don’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rot="3333000">
            <a:off x="866520" y="5051520"/>
            <a:ext cx="1079280" cy="714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by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6680" y="5300640"/>
            <a:ext cx="1326960" cy="111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doo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3333000">
            <a:off x="937800" y="4979880"/>
            <a:ext cx="1079640" cy="714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dow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 rot="3333000">
            <a:off x="1010880" y="4906800"/>
            <a:ext cx="1079640" cy="714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ff0066"/>
                </a:solidFill>
                <a:latin typeface="SassoonPrimaryInfant"/>
              </a:rPr>
              <a:t>fi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3333000">
            <a:off x="1082520" y="4691160"/>
            <a:ext cx="1079280" cy="714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465300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fou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 rot="12823800">
            <a:off x="7451280" y="542520"/>
            <a:ext cx="1295640" cy="1085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from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 rot="12823800">
            <a:off x="738036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girl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 rot="12823800">
            <a:off x="7308360" y="542520"/>
            <a:ext cx="1295640" cy="1085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01080" y="465300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good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 rot="12823800">
            <a:off x="723600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half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12823800">
            <a:off x="716436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ha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 rot="12823800">
            <a:off x="709308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help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12823800">
            <a:off x="702000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252360" y="1700280"/>
            <a:ext cx="939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d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5229360"/>
            <a:ext cx="1327320" cy="111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her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12823800">
            <a:off x="6948000" y="542520"/>
            <a:ext cx="1295640" cy="1085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hom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 rot="12823800">
            <a:off x="6877080" y="54252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663300"/>
                </a:solidFill>
                <a:latin typeface="SassoonPrimaryInfant"/>
              </a:rPr>
              <a:t>jump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 rot="12823800">
            <a:off x="6804000" y="54252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jus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940360" y="5229360"/>
            <a:ext cx="1832040" cy="132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las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940360" y="515772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li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940360" y="508464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lov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ad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ak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1832040" cy="1323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any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1832040" cy="1323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if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1040" y="5157720"/>
            <a:ext cx="1326960" cy="111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or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940360" y="479736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uch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940360" y="4724280"/>
            <a:ext cx="1832040" cy="1324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cc00cc"/>
                </a:solidFill>
                <a:latin typeface="SassoonPrimaryInfant"/>
              </a:rPr>
              <a:t>mus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832040" cy="1324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nam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 rot="3797400">
            <a:off x="241200" y="77436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nex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 rot="3797400">
            <a:off x="288720" y="703080"/>
            <a:ext cx="1413000" cy="12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nin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4113000">
            <a:off x="361800" y="631440"/>
            <a:ext cx="1412640" cy="1247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onc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 rot="4349400">
            <a:off x="433080" y="63144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44360" y="1700280"/>
            <a:ext cx="8820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ove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rot="4576800">
            <a:off x="504720" y="63180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pull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 rot="4909800">
            <a:off x="577800" y="63180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push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 rot="5234400">
            <a:off x="649440" y="631800"/>
            <a:ext cx="1412640" cy="12477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9228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o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2320" y="5084640"/>
            <a:ext cx="1327320" cy="111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se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 rot="5234400">
            <a:off x="793800" y="63180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som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 rot="5638200">
            <a:off x="938160" y="63180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24000" y="1700280"/>
            <a:ext cx="849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tak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 rot="5865600">
            <a:off x="1080720" y="631800"/>
            <a:ext cx="1412640" cy="12477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y certifi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69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 can read         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ate: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885080" y="3500280"/>
            <a:ext cx="957240" cy="2616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722520" cy="1698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1368720" cy="1343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1265400" cy="15127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 rot="20700000">
            <a:off x="394920" y="1988640"/>
            <a:ext cx="1514520" cy="23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2289240" cy="2179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500720" y="1700280"/>
            <a:ext cx="403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2816280"/>
            <a:ext cx="151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3932280"/>
            <a:ext cx="1942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4000" y="630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nt and write in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11280" y="5661000"/>
            <a:ext cx="28814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ear 1 / 2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omic Sans MS"/>
              </a:rPr>
              <a:t>out of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7020000" y="4149720"/>
            <a:ext cx="9349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ha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 rot="18485400">
            <a:off x="6660000" y="141156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700280"/>
            <a:ext cx="9036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ha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 rot="18485400">
            <a:off x="6615720" y="138456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hem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 rot="18485400">
            <a:off x="6542640" y="131328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h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18485400">
            <a:off x="6471000" y="1241640"/>
            <a:ext cx="1325880" cy="10922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im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 rot="18396000">
            <a:off x="6399720" y="116928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ook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 rot="18085200">
            <a:off x="6255720" y="109728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70028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ff"/>
                </a:solidFill>
                <a:latin typeface="SassoonPrimaryInfant"/>
              </a:rPr>
              <a:t>s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960" y="5013360"/>
            <a:ext cx="1326960" cy="111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tre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 rot="17755800">
            <a:off x="6111000" y="1024200"/>
            <a:ext cx="1325520" cy="109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4797360"/>
            <a:ext cx="696960" cy="1077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very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 rot="17526000">
            <a:off x="5968080" y="102420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wan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rot="17065200">
            <a:off x="5895000" y="102420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6600"/>
                </a:solidFill>
                <a:latin typeface="SassoonPrimaryInfant"/>
              </a:rPr>
              <a:t>were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333360"/>
            <a:ext cx="357120" cy="53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 rot="16725000">
            <a:off x="5750640" y="1024560"/>
            <a:ext cx="1325520" cy="10922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wha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 rot="18676800">
            <a:off x="6949800" y="1555920"/>
            <a:ext cx="982800" cy="9860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when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 rot="18234000">
            <a:off x="6878160" y="1482480"/>
            <a:ext cx="982800" cy="985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will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17958000">
            <a:off x="6805800" y="1410840"/>
            <a:ext cx="982440" cy="986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with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 rot="17548200">
            <a:off x="6733800" y="1339560"/>
            <a:ext cx="98280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your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 rot="17283600">
            <a:off x="6589440" y="1266480"/>
            <a:ext cx="982800" cy="986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6000" y="1700280"/>
            <a:ext cx="8820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500" spc="-1" strike="noStrike">
                <a:solidFill>
                  <a:srgbClr val="0000ff"/>
                </a:solidFill>
                <a:latin typeface="SassoonPrimaryInfant"/>
              </a:rPr>
              <a:t>about</a:t>
            </a:r>
            <a:endParaRPr b="0" lang="en-US" sz="2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 rot="17095800">
            <a:off x="6518160" y="1195200"/>
            <a:ext cx="982800" cy="985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028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9:20:15Z</dcterms:created>
  <dc:creator>A User</dc:creator>
  <dc:description/>
  <dc:language>en-US</dc:language>
  <cp:lastModifiedBy>Mike Freedman</cp:lastModifiedBy>
  <dcterms:modified xsi:type="dcterms:W3CDTF">2005-05-18T16:02:34Z</dcterms:modified>
  <cp:revision>234</cp:revision>
  <dc:subject/>
  <dc:title>Year 1 &amp; 2  key words</dc:title>
</cp:coreProperties>
</file>