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A97D-20B8-4681-B65F-77A1593A7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tmp/home/.config/libreoffice/4/user/gallery/laugh%20track.wav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>
            <a:hlinkClick r:id="rId2"/>
          </p:cNvPr>
          <p:cNvSpPr/>
          <p:nvPr/>
        </p:nvSpPr>
        <p:spPr>
          <a:xfrm>
            <a:off x="428760" y="290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rId3" action="ppaction://hlinksldjump"/>
          </p:cNvPr>
          <p:cNvSpPr/>
          <p:nvPr/>
        </p:nvSpPr>
        <p:spPr>
          <a:xfrm>
            <a:off x="733320" y="290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laugh%20track.wav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2535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3035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2535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57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2535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12 x 2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: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" fill="hold"/>
                                        <p:tgtEl>
                                          <p:spTgt spid="6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6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" fill="hold"/>
                                        <p:tgtEl>
                                          <p:spTgt spid="7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6 x 7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: 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8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£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75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200"/>
                            </p:stCondLst>
                            <p:childTnLst>
                              <p:par>
                                <p:cTn id="25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700"/>
                            </p:stCondLst>
                            <p:childTnLst>
                              <p:par>
                                <p:cTn id="2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200"/>
                            </p:stCondLst>
                            <p:childTnLst>
                              <p:par>
                                <p:cTn id="2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700"/>
                            </p:stCondLst>
                            <p:childTnLst>
                              <p:par>
                                <p:cTn id="2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12535" fill="hold"/>
                                        <p:tgtEl>
                                          <p:spTgt spid="8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8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7 x 5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40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: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9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9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1" fill="hold"/>
                                        <p:tgtEl>
                                          <p:spTgt spid="9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5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9 x 8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: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" fill="hold"/>
                                        <p:tgtEl>
                                          <p:spTgt spid="10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" fill="hold"/>
                                        <p:tgtEl>
                                          <p:spTgt spid="10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rlesden Primary Schoo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21920" y="5851440"/>
            <a:ext cx="6901560" cy="1006560"/>
            <a:chOff x="1321920" y="5851440"/>
            <a:chExt cx="6901560" cy="1006560"/>
          </a:xfrm>
        </p:grpSpPr>
        <p:sp>
          <p:nvSpPr>
            <p:cNvPr id="114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3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95480" y="64612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8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11 x 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90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: 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1" fill="hold"/>
                                        <p:tgtEl>
                                          <p:spTgt spid="1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1" fill="hold"/>
                                        <p:tgtEl>
                                          <p:spTgt spid="1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30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12 x 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1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:  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1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1" dur="1" fill="hold"/>
                                        <p:tgtEl>
                                          <p:spTgt spid="1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2" dur="1" fill="hold"/>
                                        <p:tgtEl>
                                          <p:spTgt spid="1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3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lang="en-GB" sz="4000" spc="-1" strike="noStrike">
                <a:solidFill>
                  <a:srgbClr val="ffffff"/>
                </a:solidFill>
                <a:latin typeface="MS Reference 2"/>
                <a:ea typeface="MS Reference 2"/>
              </a:rPr>
              <a:t>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of 20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0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1" dur="1" fill="hold"/>
                                        <p:tgtEl>
                                          <p:spTgt spid="1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" dur="1" fill="hold"/>
                                        <p:tgtEl>
                                          <p:spTgt spid="1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75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4" name="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£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75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200"/>
                            </p:stCondLst>
                            <p:childTnLst>
                              <p:par>
                                <p:cTn id="47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5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700"/>
                            </p:stCondLst>
                            <p:childTnLst>
                              <p:par>
                                <p:cTn id="4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9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200"/>
                            </p:stCondLst>
                            <p:childTnLst>
                              <p:par>
                                <p:cTn id="4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9" dur="1" fill="hold"/>
                                        <p:tgtEl>
                                          <p:spTgt spid="1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of 144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7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7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: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8" dur="1" fill="hold"/>
                                        <p:tgtEl>
                                          <p:spTgt spid="1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1" fill="hold"/>
                                        <p:tgtEl>
                                          <p:spTgt spid="1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7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5" dur="1" fill="hold"/>
                                        <p:tgtEl>
                                          <p:spTgt spid="16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8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the product of 12 x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:  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1" fill="hold"/>
                                        <p:tgtEl>
                                          <p:spTgt spid="1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0" dur="1" fill="hold"/>
                                        <p:tgtEl>
                                          <p:spTgt spid="1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7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17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25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3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42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50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59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67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5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1" dur="1" fill="hold"/>
                                        <p:tgtEl>
                                          <p:spTgt spid="1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1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10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2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: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0" dur="1" fill="hold"/>
                                        <p:tgtEl>
                                          <p:spTgt spid="18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500"/>
                            </p:stCondLst>
                            <p:childTnLst>
                              <p:par>
                                <p:cTn id="5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6" dur="1" fill="hold"/>
                                        <p:tgtEl>
                                          <p:spTgt spid="18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7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7" dur="1" fill="hold"/>
                                        <p:tgtEl>
                                          <p:spTgt spid="18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3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the square root of  81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4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4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: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6" dur="1" fill="hold"/>
                                        <p:tgtEl>
                                          <p:spTgt spid="19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2" dur="1" fill="hold"/>
                                        <p:tgtEl>
                                          <p:spTgt spid="19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75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3" dur="1" fill="hold"/>
                                        <p:tgtEl>
                                          <p:spTgt spid="19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6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¼ of 144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7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7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: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1" fill="hold"/>
                                        <p:tgtEl>
                                          <p:spTgt spid="20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500"/>
                            </p:stCondLst>
                            <p:childTnLst>
                              <p:par>
                                <p:cTn id="6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8" dur="1" fill="hold"/>
                                        <p:tgtEl>
                                          <p:spTgt spid="20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7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7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8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1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9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00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108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6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17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2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33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0" name=""/>
          <p:cNvSpPr/>
          <p:nvPr/>
        </p:nvSpPr>
        <p:spPr>
          <a:xfrm>
            <a:off x="485640" y="1415880"/>
            <a:ext cx="7944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YOU WIN £1 MILLION Pounds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9" dur="1" fill="hold"/>
                                        <p:tgtEl>
                                          <p:spTgt spid="20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500"/>
                            </p:stCondLst>
                            <p:childTnLst>
                              <p:par>
                                <p:cTn id="6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3500"/>
                            </p:stCondLst>
                            <p:childTnLst>
                              <p:par>
                                <p:cTn id="7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1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2142" name=""/>
          <p:cNvSpPr/>
          <p:nvPr/>
        </p:nvSpPr>
        <p:spPr>
          <a:xfrm>
            <a:off x="1219320" y="2133720"/>
            <a:ext cx="7010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Incorrect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512000" y="3505320"/>
            <a:ext cx="618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ank-you for playing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1 x 9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D: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rId3"/>
          </p:cNvPr>
          <p:cNvSpPr/>
          <p:nvPr/>
        </p:nvSpPr>
        <p:spPr>
          <a:xfrm>
            <a:off x="428760" y="290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4" action="ppaction://hlinksldjump"/>
          </p:cNvPr>
          <p:cNvSpPr/>
          <p:nvPr/>
        </p:nvSpPr>
        <p:spPr>
          <a:xfrm>
            <a:off x="733320" y="290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4 x 4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: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7 x 2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: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E Campta</dc:creator>
  <dc:description/>
  <dc:language>en-US</dc:language>
  <cp:lastModifiedBy>Mike Freedman</cp:lastModifiedBy>
  <dcterms:modified xsi:type="dcterms:W3CDTF">2005-05-18T16:17:51Z</dcterms:modified>
  <cp:revision>27</cp:revision>
  <dc:subject/>
  <dc:title>Who wants to millionaire Multiplications</dc:title>
</cp:coreProperties>
</file>