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BF0-7E0A-4DF8-A7C3-04E6509C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218-535F-49F6-8143-E542BB80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B68-E6FF-4F6D-9E7C-850B2AA4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272-D049-4ABA-AAAE-87374459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EE3-4FC5-45E7-9CEB-3A27FB23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BC9-541D-4641-9056-45F0BCBC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5EF-CB93-4AEC-87DD-CB1D7E1D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F9C-C56F-418C-95F2-B6873137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814-E5D0-4ADE-96FA-C7C99231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56C-8FA2-435D-B5F2-E00CE356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8D5-F4FF-46FE-BBD8-E267C7B4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0D44-A77C-4E1B-9B71-635F8529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8465-BFF7-49E8-80DA-15B22D635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more and le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267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3200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1905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124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enguin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les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4343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1981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mo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3657600"/>
            <a:ext cx="914400" cy="1143000"/>
          </a:xfrm>
          <a:prstGeom prst="sun">
            <a:avLst>
              <a:gd name="adj" fmla="val 25000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39625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2468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enguin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les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36576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3048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220968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few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3048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040240" y="609480"/>
            <a:ext cx="54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0280" y="39625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0384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fewer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9718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2096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449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35812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22860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533520"/>
            <a:ext cx="12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enguin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2096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39625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enguin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311640" cy="3809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811640" y="533520"/>
            <a:ext cx="54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less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05740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4114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297180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1905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198108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4191120"/>
            <a:ext cx="914400" cy="1143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enguin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few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1981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4290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enguin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11640" cy="38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040240" y="457200"/>
            <a:ext cx="54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les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3200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2670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20574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403848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97180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4191120"/>
            <a:ext cx="914400" cy="1143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enguin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22096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4495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419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32767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20040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22096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4419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2468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enguin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ich has </a:t>
            </a: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mor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905120"/>
            <a:ext cx="342900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1905120"/>
            <a:ext cx="33526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1337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1911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12408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32004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533520"/>
            <a:ext cx="121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enguin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311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2:53:30Z</dcterms:created>
  <dc:creator>Mairi Egger</dc:creator>
  <dc:description/>
  <dc:language>en-US</dc:language>
  <cp:lastModifiedBy>Mairi Egger</cp:lastModifiedBy>
  <dcterms:modified xsi:type="dcterms:W3CDTF">2003-04-05T07:10:28Z</dcterms:modified>
  <cp:revision>5</cp:revision>
  <dc:subject/>
  <dc:title>More and less</dc:title>
</cp:coreProperties>
</file>