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95D-1637-4C21-A582-6E265F1F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7B8-6E75-4226-8AFE-21D38054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746-7ED0-4931-BD20-17507B15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147-7A22-4BD4-8C17-0D42E334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FEA-CFE4-4FC4-A979-33A35E3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0C4-6F03-42DA-A96B-B3029BC0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889-526D-4DD5-B834-3458BDD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E6D-1711-492A-B1EA-39596DA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760-FEC6-4A97-81A3-6D7F90A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700-C960-47ED-985A-29567B2E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195-51CC-4170-9D06-95059E8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142-3C30-4C85-BF06-1C5CF8C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D339-9E7F-4880-BF72-A682366F2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fewer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les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mor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3-16T13:06:23Z</dcterms:modified>
  <cp:revision>1</cp:revision>
  <dc:subject/>
  <dc:title>More and less</dc:title>
</cp:coreProperties>
</file>