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2" end="3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EdOUPTTPC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EdOUPTTP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EdOUPTTP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EdOUPTTP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EdOUPTTP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EdOUPTTP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5FCC5-518C-4DF9-8DB1-60AFC209746C}" type="slidenum">
              <a:rPr b="0" lang="en-US" sz="1200" spc="-1" strike="noStrike">
                <a:solidFill>
                  <a:srgbClr val="000000"/>
                </a:solidFill>
                <a:latin typeface="GillEdOUPTTP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Sub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roughout the presentation click the left mouse button to move on.  After the final slide the presentation will loop back to the first working slid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fter introduction as a whole class activity children can use this presentation individually for further pract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  Read the calculation when it appear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 Count the pictures as they appea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  Count the pictures as they disappea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.  Count how many are lef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.  Check your answer as it appear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.  Re-read the complete calculatio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eronica Car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ndas@camelsdale.w-sussex.sch.u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1072-8648-4B3A-B3E0-731B4F97D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853D-43ED-494E-8150-9736BBC33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F589-41B7-4D1D-A4AD-A6D1E461C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386B-F16D-4059-86E0-3B9E616EE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188B-5AD7-4065-B003-A267CAFD7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C65C-2FC0-420F-8F75-5EA5CA270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03BE-1316-4A5E-8C39-805079CEE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EED5-457E-4841-BBD8-7B4F6019C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7634-93AB-40AC-8EFB-D874EB9D9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BC5F-D4FB-4AE5-B747-AAFD5780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009B-902D-4F93-9067-63AAB3BB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6FFD-C51A-4802-9392-8998D591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4600-9FFB-49D9-B919-074FD82B69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4.wmf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.wmf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.wmf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5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5.wmf"/><Relationship Id="rId1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5.wmf"/><Relationship Id="rId1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.wmf"/><Relationship Id="rId1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.wmf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6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6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6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6.wmf"/><Relationship Id="rId2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6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6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6.wmf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7.wmf"/><Relationship Id="rId1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wmf"/><Relationship Id="rId1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.wmf"/><Relationship Id="rId1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9.wmf"/><Relationship Id="rId1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0.wmf"/><Relationship Id="rId1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.wmf"/><Relationship Id="rId10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1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1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1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1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1.png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.wmf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.wmf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.wmf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ubtr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d by Veronica Carter for Pandas YR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melsdale First Sch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ww.pavilion.co.uk/camelsdale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ee notes attached to slide 2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523880" y="762120"/>
            <a:ext cx="5181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7 - 2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57200" y="2209680"/>
            <a:ext cx="5410080" cy="4430880"/>
            <a:chOff x="457200" y="2209680"/>
            <a:chExt cx="5410080" cy="4430880"/>
          </a:xfrm>
        </p:grpSpPr>
        <p:graphicFrame>
          <p:nvGraphicFramePr>
            <p:cNvPr id="131" name=""/>
            <p:cNvGraphicFramePr/>
            <p:nvPr/>
          </p:nvGraphicFramePr>
          <p:xfrm>
            <a:off x="457200" y="2971800"/>
            <a:ext cx="1676520" cy="13827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3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57200" y="2971800"/>
                      <a:ext cx="1676520" cy="138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3" name=""/>
            <p:cNvGraphicFramePr/>
            <p:nvPr/>
          </p:nvGraphicFramePr>
          <p:xfrm>
            <a:off x="2362320" y="3809880"/>
            <a:ext cx="1676160" cy="13827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3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362320" y="3809880"/>
                      <a:ext cx="1676160" cy="138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5" name=""/>
            <p:cNvGraphicFramePr/>
            <p:nvPr/>
          </p:nvGraphicFramePr>
          <p:xfrm>
            <a:off x="2286000" y="2209680"/>
            <a:ext cx="1676520" cy="13827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3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286000" y="2209680"/>
                      <a:ext cx="1676520" cy="138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7" name=""/>
            <p:cNvGraphicFramePr/>
            <p:nvPr/>
          </p:nvGraphicFramePr>
          <p:xfrm>
            <a:off x="533520" y="4648320"/>
            <a:ext cx="1676160" cy="13827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38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33520" y="4648320"/>
                      <a:ext cx="1676160" cy="138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9" name=""/>
            <p:cNvGraphicFramePr/>
            <p:nvPr/>
          </p:nvGraphicFramePr>
          <p:xfrm>
            <a:off x="2438280" y="5257800"/>
            <a:ext cx="1676520" cy="13827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40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438280" y="5257800"/>
                      <a:ext cx="1676520" cy="138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1" name=""/>
            <p:cNvGraphicFramePr/>
            <p:nvPr/>
          </p:nvGraphicFramePr>
          <p:xfrm>
            <a:off x="4191120" y="4648320"/>
            <a:ext cx="1676160" cy="138276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42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4191120" y="4648320"/>
                      <a:ext cx="1676160" cy="138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3" name=""/>
            <p:cNvGraphicFramePr/>
            <p:nvPr/>
          </p:nvGraphicFramePr>
          <p:xfrm>
            <a:off x="4114800" y="3124080"/>
            <a:ext cx="1676520" cy="138276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144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4114800" y="3124080"/>
                      <a:ext cx="1676520" cy="138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523880" y="762120"/>
            <a:ext cx="5181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7 - 2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57200" y="2971800"/>
          <a:ext cx="1676520" cy="1382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971800"/>
                    <a:ext cx="167652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2362320" y="3809880"/>
          <a:ext cx="1676160" cy="1382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62320" y="3809880"/>
                    <a:ext cx="167616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2286000" y="2209680"/>
          <a:ext cx="1676520" cy="1382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86000" y="2209680"/>
                    <a:ext cx="167652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533520" y="4648320"/>
          <a:ext cx="1676160" cy="1382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33520" y="4648320"/>
                    <a:ext cx="167616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2438280" y="5257800"/>
          <a:ext cx="1676520" cy="13827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438280" y="5257800"/>
                    <a:ext cx="167652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4114800" y="3124080"/>
          <a:ext cx="1676520" cy="13827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114800" y="3124080"/>
                    <a:ext cx="167652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523880" y="762120"/>
            <a:ext cx="5181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7 - 2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57200" y="2971800"/>
          <a:ext cx="1676520" cy="1382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971800"/>
                    <a:ext cx="167652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2362320" y="3809880"/>
          <a:ext cx="1676160" cy="1382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62320" y="3809880"/>
                    <a:ext cx="167616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2286000" y="2209680"/>
          <a:ext cx="1676520" cy="1382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86000" y="2209680"/>
                    <a:ext cx="167652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533520" y="4648320"/>
          <a:ext cx="1676160" cy="1382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33520" y="4648320"/>
                    <a:ext cx="167616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2438280" y="5257800"/>
          <a:ext cx="1676520" cy="13827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438280" y="5257800"/>
                    <a:ext cx="167652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5486400" y="762120"/>
            <a:ext cx="12952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5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676520" y="838080"/>
            <a:ext cx="4419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8 - 4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457200" y="2286000"/>
            <a:ext cx="4572000" cy="4367160"/>
            <a:chOff x="457200" y="2286000"/>
            <a:chExt cx="4572000" cy="4367160"/>
          </a:xfrm>
        </p:grpSpPr>
        <p:graphicFrame>
          <p:nvGraphicFramePr>
            <p:cNvPr id="172" name=""/>
            <p:cNvGraphicFramePr/>
            <p:nvPr/>
          </p:nvGraphicFramePr>
          <p:xfrm>
            <a:off x="533520" y="2286000"/>
            <a:ext cx="1904760" cy="1014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33520" y="2286000"/>
                      <a:ext cx="1904760" cy="101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4" name=""/>
            <p:cNvGraphicFramePr/>
            <p:nvPr/>
          </p:nvGraphicFramePr>
          <p:xfrm>
            <a:off x="533520" y="3352680"/>
            <a:ext cx="1904760" cy="10144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7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33520" y="3352680"/>
                      <a:ext cx="1904760" cy="101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6" name=""/>
            <p:cNvGraphicFramePr/>
            <p:nvPr/>
          </p:nvGraphicFramePr>
          <p:xfrm>
            <a:off x="457200" y="4495680"/>
            <a:ext cx="1905120" cy="10144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7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457200" y="4495680"/>
                      <a:ext cx="1905120" cy="101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8" name=""/>
            <p:cNvGraphicFramePr/>
            <p:nvPr/>
          </p:nvGraphicFramePr>
          <p:xfrm>
            <a:off x="3124080" y="3352680"/>
            <a:ext cx="1905120" cy="10144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79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3124080" y="3352680"/>
                      <a:ext cx="1905120" cy="101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0" name=""/>
            <p:cNvGraphicFramePr/>
            <p:nvPr/>
          </p:nvGraphicFramePr>
          <p:xfrm>
            <a:off x="3048120" y="2286000"/>
            <a:ext cx="1904760" cy="10144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81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048120" y="2286000"/>
                      <a:ext cx="1904760" cy="101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2" name=""/>
            <p:cNvGraphicFramePr/>
            <p:nvPr/>
          </p:nvGraphicFramePr>
          <p:xfrm>
            <a:off x="457200" y="5638680"/>
            <a:ext cx="1905120" cy="101448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83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457200" y="5638680"/>
                      <a:ext cx="1905120" cy="101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4" name=""/>
            <p:cNvGraphicFramePr/>
            <p:nvPr/>
          </p:nvGraphicFramePr>
          <p:xfrm>
            <a:off x="3124080" y="4495680"/>
            <a:ext cx="1905120" cy="101448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185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3124080" y="4495680"/>
                      <a:ext cx="1905120" cy="101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6" name=""/>
            <p:cNvGraphicFramePr/>
            <p:nvPr/>
          </p:nvGraphicFramePr>
          <p:xfrm>
            <a:off x="3124080" y="5638680"/>
            <a:ext cx="1905120" cy="101448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187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3124080" y="5638680"/>
                      <a:ext cx="1905120" cy="101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676520" y="838080"/>
            <a:ext cx="4419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8 - 4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533520" y="2286000"/>
          <a:ext cx="1904760" cy="101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286000"/>
                    <a:ext cx="19047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533520" y="3352680"/>
          <a:ext cx="1904760" cy="1014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520" y="3352680"/>
                    <a:ext cx="19047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457200" y="4495680"/>
          <a:ext cx="1905120" cy="1014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7200" y="4495680"/>
                    <a:ext cx="190512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3124080" y="3352680"/>
          <a:ext cx="1905120" cy="1014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124080" y="3352680"/>
                    <a:ext cx="190512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3048120" y="2286000"/>
          <a:ext cx="1904760" cy="1014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048120" y="2286000"/>
                    <a:ext cx="19047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457200" y="5638680"/>
          <a:ext cx="1905120" cy="1014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57200" y="5638680"/>
                    <a:ext cx="190512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3124080" y="4495680"/>
          <a:ext cx="1905120" cy="10144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124080" y="4495680"/>
                    <a:ext cx="190512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676520" y="838080"/>
            <a:ext cx="4419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8 - 4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533520" y="2286000"/>
          <a:ext cx="1904760" cy="101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286000"/>
                    <a:ext cx="19047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533520" y="3352680"/>
          <a:ext cx="1904760" cy="1014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520" y="3352680"/>
                    <a:ext cx="19047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457200" y="4495680"/>
          <a:ext cx="1905120" cy="1014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7200" y="4495680"/>
                    <a:ext cx="190512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3124080" y="3352680"/>
          <a:ext cx="1905120" cy="1014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124080" y="3352680"/>
                    <a:ext cx="190512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3048120" y="2286000"/>
          <a:ext cx="1904760" cy="1014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048120" y="2286000"/>
                    <a:ext cx="19047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457200" y="5638680"/>
          <a:ext cx="1905120" cy="1014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57200" y="5638680"/>
                    <a:ext cx="190512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676520" y="838080"/>
            <a:ext cx="4419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8 - 4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533520" y="2286000"/>
          <a:ext cx="1904760" cy="101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286000"/>
                    <a:ext cx="19047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533520" y="3352680"/>
          <a:ext cx="1904760" cy="1014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520" y="3352680"/>
                    <a:ext cx="19047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457200" y="4495680"/>
          <a:ext cx="1905120" cy="1014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7200" y="4495680"/>
                    <a:ext cx="190512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3048120" y="2286000"/>
          <a:ext cx="1904760" cy="1014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048120" y="2286000"/>
                    <a:ext cx="19047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457200" y="5638680"/>
          <a:ext cx="1905120" cy="1014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57200" y="5638680"/>
                    <a:ext cx="190512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676520" y="838080"/>
            <a:ext cx="4419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8 - 4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533520" y="2286000"/>
          <a:ext cx="1904760" cy="101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286000"/>
                    <a:ext cx="19047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533520" y="3352680"/>
          <a:ext cx="1904760" cy="1014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520" y="3352680"/>
                    <a:ext cx="19047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457200" y="4495680"/>
          <a:ext cx="1905120" cy="1014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7200" y="4495680"/>
                    <a:ext cx="190512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457200" y="5638680"/>
          <a:ext cx="1905120" cy="1014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57200" y="5638680"/>
                    <a:ext cx="190512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5638680" y="838080"/>
            <a:ext cx="1828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4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828800" y="838080"/>
            <a:ext cx="43434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9 - 1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304920" y="2590920"/>
            <a:ext cx="8534160" cy="3378240"/>
            <a:chOff x="304920" y="2590920"/>
            <a:chExt cx="8534160" cy="3378240"/>
          </a:xfrm>
        </p:grpSpPr>
        <p:graphicFrame>
          <p:nvGraphicFramePr>
            <p:cNvPr id="239" name=""/>
            <p:cNvGraphicFramePr/>
            <p:nvPr/>
          </p:nvGraphicFramePr>
          <p:xfrm>
            <a:off x="380880" y="4495680"/>
            <a:ext cx="1524240" cy="1473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4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80880" y="4495680"/>
                      <a:ext cx="1524240" cy="147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1" name=""/>
            <p:cNvGraphicFramePr/>
            <p:nvPr/>
          </p:nvGraphicFramePr>
          <p:xfrm>
            <a:off x="2133720" y="4495680"/>
            <a:ext cx="1523880" cy="14734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4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133720" y="4495680"/>
                      <a:ext cx="1523880" cy="147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3" name=""/>
            <p:cNvGraphicFramePr/>
            <p:nvPr/>
          </p:nvGraphicFramePr>
          <p:xfrm>
            <a:off x="3962520" y="4495680"/>
            <a:ext cx="1523880" cy="14734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4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962520" y="4495680"/>
                      <a:ext cx="1523880" cy="147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45" name=""/>
            <p:cNvGrpSpPr/>
            <p:nvPr/>
          </p:nvGrpSpPr>
          <p:grpSpPr>
            <a:xfrm>
              <a:off x="304920" y="2590920"/>
              <a:ext cx="8534160" cy="3301920"/>
              <a:chOff x="304920" y="2590920"/>
              <a:chExt cx="8534160" cy="3301920"/>
            </a:xfrm>
          </p:grpSpPr>
          <p:graphicFrame>
            <p:nvGraphicFramePr>
              <p:cNvPr id="246" name=""/>
              <p:cNvGraphicFramePr/>
              <p:nvPr/>
            </p:nvGraphicFramePr>
            <p:xfrm>
              <a:off x="304920" y="2590920"/>
              <a:ext cx="1523880" cy="1473120"/>
            </p:xfrm>
            <a:graphic>
              <a:graphicData uri="http://schemas.openxmlformats.org/presentationml/2006/ole">
                <p:oleObj r:id="rId8" spid="">
                  <p:embed/>
                  <p:pic>
                    <p:nvPicPr>
                      <p:cNvPr id="247" name="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304920" y="2590920"/>
                        <a:ext cx="1523880" cy="147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48" name=""/>
              <p:cNvGraphicFramePr/>
              <p:nvPr/>
            </p:nvGraphicFramePr>
            <p:xfrm>
              <a:off x="2057400" y="2590920"/>
              <a:ext cx="1523880" cy="1473120"/>
            </p:xfrm>
            <a:graphic>
              <a:graphicData uri="http://schemas.openxmlformats.org/presentationml/2006/ole">
                <p:oleObj r:id="rId10" spid="">
                  <p:embed/>
                  <p:pic>
                    <p:nvPicPr>
                      <p:cNvPr id="249" name="" descr=""/>
                      <p:cNvPicPr/>
                      <p:nvPr/>
                    </p:nvPicPr>
                    <p:blipFill>
                      <a:blip r:embed="rId11"/>
                      <a:stretch/>
                    </p:blipFill>
                    <p:spPr>
                      <a:xfrm>
                        <a:off x="2057400" y="2590920"/>
                        <a:ext cx="1523880" cy="147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50" name=""/>
              <p:cNvGraphicFramePr/>
              <p:nvPr/>
            </p:nvGraphicFramePr>
            <p:xfrm>
              <a:off x="3809880" y="2590920"/>
              <a:ext cx="1524240" cy="1473120"/>
            </p:xfrm>
            <a:graphic>
              <a:graphicData uri="http://schemas.openxmlformats.org/presentationml/2006/ole">
                <p:oleObj r:id="rId12" spid="">
                  <p:embed/>
                  <p:pic>
                    <p:nvPicPr>
                      <p:cNvPr id="251" name="" descr=""/>
                      <p:cNvPicPr/>
                      <p:nvPr/>
                    </p:nvPicPr>
                    <p:blipFill>
                      <a:blip r:embed="rId13"/>
                      <a:stretch/>
                    </p:blipFill>
                    <p:spPr>
                      <a:xfrm>
                        <a:off x="3809880" y="2590920"/>
                        <a:ext cx="1524240" cy="147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52" name=""/>
              <p:cNvGraphicFramePr/>
              <p:nvPr/>
            </p:nvGraphicFramePr>
            <p:xfrm>
              <a:off x="5791320" y="4419720"/>
              <a:ext cx="1523880" cy="1473120"/>
            </p:xfrm>
            <a:graphic>
              <a:graphicData uri="http://schemas.openxmlformats.org/presentationml/2006/ole">
                <p:oleObj r:id="rId14" spid="">
                  <p:embed/>
                  <p:pic>
                    <p:nvPicPr>
                      <p:cNvPr id="253" name="" descr=""/>
                      <p:cNvPicPr/>
                      <p:nvPr/>
                    </p:nvPicPr>
                    <p:blipFill>
                      <a:blip r:embed="rId15"/>
                      <a:stretch/>
                    </p:blipFill>
                    <p:spPr>
                      <a:xfrm>
                        <a:off x="5791320" y="4419720"/>
                        <a:ext cx="1523880" cy="147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54" name=""/>
              <p:cNvGraphicFramePr/>
              <p:nvPr/>
            </p:nvGraphicFramePr>
            <p:xfrm>
              <a:off x="5638680" y="2590920"/>
              <a:ext cx="1524240" cy="1473120"/>
            </p:xfrm>
            <a:graphic>
              <a:graphicData uri="http://schemas.openxmlformats.org/presentationml/2006/ole">
                <p:oleObj r:id="rId16" spid="">
                  <p:embed/>
                  <p:pic>
                    <p:nvPicPr>
                      <p:cNvPr id="255" name="" descr=""/>
                      <p:cNvPicPr/>
                      <p:nvPr/>
                    </p:nvPicPr>
                    <p:blipFill>
                      <a:blip r:embed="rId17"/>
                      <a:stretch/>
                    </p:blipFill>
                    <p:spPr>
                      <a:xfrm>
                        <a:off x="5638680" y="2590920"/>
                        <a:ext cx="1524240" cy="147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56" name=""/>
              <p:cNvGraphicFramePr/>
              <p:nvPr/>
            </p:nvGraphicFramePr>
            <p:xfrm>
              <a:off x="7315200" y="3505320"/>
              <a:ext cx="1523880" cy="1473120"/>
            </p:xfrm>
            <a:graphic>
              <a:graphicData uri="http://schemas.openxmlformats.org/presentationml/2006/ole">
                <p:oleObj r:id="rId18" spid="">
                  <p:embed/>
                  <p:pic>
                    <p:nvPicPr>
                      <p:cNvPr id="257" name="" descr=""/>
                      <p:cNvPicPr/>
                      <p:nvPr/>
                    </p:nvPicPr>
                    <p:blipFill>
                      <a:blip r:embed="rId19"/>
                      <a:stretch/>
                    </p:blipFill>
                    <p:spPr>
                      <a:xfrm>
                        <a:off x="7315200" y="3505320"/>
                        <a:ext cx="1523880" cy="147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828800" y="838080"/>
            <a:ext cx="43434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9 - 1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304920" y="2590920"/>
          <a:ext cx="1523880" cy="1473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2590920"/>
                    <a:ext cx="1523880" cy="14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2057400" y="2590920"/>
          <a:ext cx="1523880" cy="1473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7400" y="2590920"/>
                    <a:ext cx="1523880" cy="14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3809880" y="2590920"/>
          <a:ext cx="1524240" cy="1473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09880" y="2590920"/>
                    <a:ext cx="1524240" cy="14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380880" y="4495680"/>
          <a:ext cx="1524240" cy="1473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80880" y="4495680"/>
                    <a:ext cx="1524240" cy="14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2133720" y="4495680"/>
          <a:ext cx="1523880" cy="1473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133720" y="4495680"/>
                    <a:ext cx="1523880" cy="14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3962520" y="4495680"/>
          <a:ext cx="1523880" cy="1473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962520" y="4495680"/>
                    <a:ext cx="1523880" cy="14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"/>
          <p:cNvGraphicFramePr/>
          <p:nvPr/>
        </p:nvGraphicFramePr>
        <p:xfrm>
          <a:off x="5791320" y="4419720"/>
          <a:ext cx="1523880" cy="14731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791320" y="4419720"/>
                    <a:ext cx="1523880" cy="14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5638680" y="2590920"/>
          <a:ext cx="1524240" cy="14731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638680" y="2590920"/>
                    <a:ext cx="1524240" cy="14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"/>
          <p:cNvSpPr/>
          <p:nvPr/>
        </p:nvSpPr>
        <p:spPr>
          <a:xfrm>
            <a:off x="5791320" y="838080"/>
            <a:ext cx="1066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8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76520" y="914400"/>
            <a:ext cx="43434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5 - 3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57200" y="2514600"/>
            <a:ext cx="5595840" cy="3808440"/>
            <a:chOff x="457200" y="2514600"/>
            <a:chExt cx="5595840" cy="3808440"/>
          </a:xfrm>
        </p:grpSpPr>
        <p:graphicFrame>
          <p:nvGraphicFramePr>
            <p:cNvPr id="52" name=""/>
            <p:cNvGraphicFramePr/>
            <p:nvPr/>
          </p:nvGraphicFramePr>
          <p:xfrm>
            <a:off x="4267080" y="4724280"/>
            <a:ext cx="1785960" cy="15987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267080" y="4724280"/>
                      <a:ext cx="1785960" cy="159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4" name=""/>
            <p:cNvGraphicFramePr/>
            <p:nvPr/>
          </p:nvGraphicFramePr>
          <p:xfrm>
            <a:off x="4191120" y="2514600"/>
            <a:ext cx="1785960" cy="15987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5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191120" y="2514600"/>
                      <a:ext cx="1785960" cy="159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6" name=""/>
            <p:cNvGraphicFramePr/>
            <p:nvPr/>
          </p:nvGraphicFramePr>
          <p:xfrm>
            <a:off x="2362320" y="3733920"/>
            <a:ext cx="1785960" cy="15984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5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362320" y="3733920"/>
                      <a:ext cx="1785960" cy="159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" name=""/>
            <p:cNvGraphicFramePr/>
            <p:nvPr/>
          </p:nvGraphicFramePr>
          <p:xfrm>
            <a:off x="533520" y="4648320"/>
            <a:ext cx="1785960" cy="15984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59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33520" y="4648320"/>
                      <a:ext cx="1785960" cy="159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" name=""/>
            <p:cNvGraphicFramePr/>
            <p:nvPr/>
          </p:nvGraphicFramePr>
          <p:xfrm>
            <a:off x="457200" y="2590920"/>
            <a:ext cx="1785960" cy="15984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61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57200" y="2590920"/>
                      <a:ext cx="1785960" cy="159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"/>
          <p:cNvGrpSpPr/>
          <p:nvPr/>
        </p:nvGrpSpPr>
        <p:grpSpPr>
          <a:xfrm>
            <a:off x="533520" y="2743200"/>
            <a:ext cx="7607160" cy="3486240"/>
            <a:chOff x="533520" y="2743200"/>
            <a:chExt cx="7607160" cy="3486240"/>
          </a:xfrm>
        </p:grpSpPr>
        <p:graphicFrame>
          <p:nvGraphicFramePr>
            <p:cNvPr id="277" name=""/>
            <p:cNvGraphicFramePr/>
            <p:nvPr/>
          </p:nvGraphicFramePr>
          <p:xfrm>
            <a:off x="533520" y="2743200"/>
            <a:ext cx="1511280" cy="16574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7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33520" y="2743200"/>
                      <a:ext cx="1511280" cy="165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9" name=""/>
            <p:cNvGraphicFramePr/>
            <p:nvPr/>
          </p:nvGraphicFramePr>
          <p:xfrm>
            <a:off x="6629400" y="3581280"/>
            <a:ext cx="1511280" cy="1657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8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629400" y="3581280"/>
                      <a:ext cx="1511280" cy="165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1" name=""/>
            <p:cNvGraphicFramePr/>
            <p:nvPr/>
          </p:nvGraphicFramePr>
          <p:xfrm>
            <a:off x="533520" y="4572000"/>
            <a:ext cx="1511280" cy="16574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82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33520" y="4572000"/>
                      <a:ext cx="1511280" cy="165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3" name=""/>
            <p:cNvGraphicFramePr/>
            <p:nvPr/>
          </p:nvGraphicFramePr>
          <p:xfrm>
            <a:off x="2666880" y="2743200"/>
            <a:ext cx="1511280" cy="16574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84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666880" y="2743200"/>
                      <a:ext cx="1511280" cy="165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5" name=""/>
            <p:cNvGraphicFramePr/>
            <p:nvPr/>
          </p:nvGraphicFramePr>
          <p:xfrm>
            <a:off x="2666880" y="4495680"/>
            <a:ext cx="1511280" cy="165744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286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666880" y="4495680"/>
                      <a:ext cx="1511280" cy="165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7" name=""/>
            <p:cNvGraphicFramePr/>
            <p:nvPr/>
          </p:nvGraphicFramePr>
          <p:xfrm>
            <a:off x="4800600" y="4572000"/>
            <a:ext cx="1511280" cy="165744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288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4800600" y="4572000"/>
                      <a:ext cx="1511280" cy="165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9" name=""/>
            <p:cNvGraphicFramePr/>
            <p:nvPr/>
          </p:nvGraphicFramePr>
          <p:xfrm>
            <a:off x="4800600" y="2743200"/>
            <a:ext cx="1511280" cy="165744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290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4800600" y="2743200"/>
                      <a:ext cx="1511280" cy="165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91" name=""/>
          <p:cNvSpPr/>
          <p:nvPr/>
        </p:nvSpPr>
        <p:spPr>
          <a:xfrm>
            <a:off x="1828800" y="838080"/>
            <a:ext cx="53341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7 - 3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2" name=""/>
          <p:cNvGraphicFramePr/>
          <p:nvPr/>
        </p:nvGraphicFramePr>
        <p:xfrm>
          <a:off x="533520" y="2743200"/>
          <a:ext cx="1511280" cy="165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743200"/>
                    <a:ext cx="151128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533520" y="4572000"/>
          <a:ext cx="1511280" cy="1657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520" y="4572000"/>
                    <a:ext cx="151128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2666880" y="2743200"/>
          <a:ext cx="1511280" cy="1657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666880" y="2743200"/>
                    <a:ext cx="151128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2666880" y="4495680"/>
          <a:ext cx="1511280" cy="1657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666880" y="4495680"/>
                    <a:ext cx="151128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"/>
          <p:cNvGraphicFramePr/>
          <p:nvPr/>
        </p:nvGraphicFramePr>
        <p:xfrm>
          <a:off x="4800600" y="4572000"/>
          <a:ext cx="1511280" cy="16574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0600" y="4572000"/>
                    <a:ext cx="151128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4800600" y="2743200"/>
          <a:ext cx="1511280" cy="16574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800600" y="2743200"/>
                    <a:ext cx="151128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1828800" y="838080"/>
            <a:ext cx="53341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7 - 3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5" name=""/>
          <p:cNvGraphicFramePr/>
          <p:nvPr/>
        </p:nvGraphicFramePr>
        <p:xfrm>
          <a:off x="533520" y="2743200"/>
          <a:ext cx="1511280" cy="165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743200"/>
                    <a:ext cx="151128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533520" y="4572000"/>
          <a:ext cx="1511280" cy="1657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520" y="4572000"/>
                    <a:ext cx="151128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2666880" y="2743200"/>
          <a:ext cx="1511280" cy="1657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666880" y="2743200"/>
                    <a:ext cx="151128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2666880" y="4495680"/>
          <a:ext cx="1511280" cy="1657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666880" y="4495680"/>
                    <a:ext cx="151128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" name=""/>
          <p:cNvGraphicFramePr/>
          <p:nvPr/>
        </p:nvGraphicFramePr>
        <p:xfrm>
          <a:off x="4800600" y="2743200"/>
          <a:ext cx="1511280" cy="16574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0600" y="2743200"/>
                    <a:ext cx="151128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"/>
          <p:cNvSpPr/>
          <p:nvPr/>
        </p:nvSpPr>
        <p:spPr>
          <a:xfrm>
            <a:off x="1828800" y="838080"/>
            <a:ext cx="53341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7 - 3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"/>
          <p:cNvGraphicFramePr/>
          <p:nvPr/>
        </p:nvGraphicFramePr>
        <p:xfrm>
          <a:off x="533520" y="2743200"/>
          <a:ext cx="1511280" cy="165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743200"/>
                    <a:ext cx="151128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533520" y="4572000"/>
          <a:ext cx="1511280" cy="1657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520" y="4572000"/>
                    <a:ext cx="151128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2666880" y="2743200"/>
          <a:ext cx="1511280" cy="1657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666880" y="2743200"/>
                    <a:ext cx="151128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"/>
          <p:cNvGraphicFramePr/>
          <p:nvPr/>
        </p:nvGraphicFramePr>
        <p:xfrm>
          <a:off x="2666880" y="4495680"/>
          <a:ext cx="1511280" cy="1657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666880" y="4495680"/>
                    <a:ext cx="151128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4" name=""/>
          <p:cNvSpPr/>
          <p:nvPr/>
        </p:nvSpPr>
        <p:spPr>
          <a:xfrm>
            <a:off x="1828800" y="838080"/>
            <a:ext cx="53341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7 - 3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91320" y="762120"/>
            <a:ext cx="16002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4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447920" y="1143000"/>
            <a:ext cx="4267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4 - 3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533520" y="2743200"/>
            <a:ext cx="5638680" cy="3411360"/>
            <a:chOff x="533520" y="2743200"/>
            <a:chExt cx="5638680" cy="3411360"/>
          </a:xfrm>
        </p:grpSpPr>
        <p:graphicFrame>
          <p:nvGraphicFramePr>
            <p:cNvPr id="328" name=""/>
            <p:cNvGraphicFramePr/>
            <p:nvPr/>
          </p:nvGraphicFramePr>
          <p:xfrm>
            <a:off x="533520" y="2743200"/>
            <a:ext cx="2514600" cy="1430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2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33520" y="2743200"/>
                      <a:ext cx="2514600" cy="143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30" name=""/>
            <p:cNvGraphicFramePr/>
            <p:nvPr/>
          </p:nvGraphicFramePr>
          <p:xfrm>
            <a:off x="3657600" y="4724280"/>
            <a:ext cx="2514600" cy="14302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3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657600" y="4724280"/>
                      <a:ext cx="2514600" cy="143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32" name=""/>
            <p:cNvGraphicFramePr/>
            <p:nvPr/>
          </p:nvGraphicFramePr>
          <p:xfrm>
            <a:off x="533520" y="4724280"/>
            <a:ext cx="2514600" cy="14302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333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33520" y="4724280"/>
                      <a:ext cx="2514600" cy="143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34" name=""/>
            <p:cNvGraphicFramePr/>
            <p:nvPr/>
          </p:nvGraphicFramePr>
          <p:xfrm>
            <a:off x="3657600" y="2743200"/>
            <a:ext cx="2514600" cy="14302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335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3657600" y="2743200"/>
                      <a:ext cx="2514600" cy="143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1447920" y="1143000"/>
            <a:ext cx="4267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4 - 3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533520" y="2743200"/>
          <a:ext cx="2514600" cy="1430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743200"/>
                    <a:ext cx="2514600" cy="14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533520" y="4724280"/>
          <a:ext cx="2514600" cy="1430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520" y="4724280"/>
                    <a:ext cx="2514600" cy="14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1" name=""/>
          <p:cNvGraphicFramePr/>
          <p:nvPr/>
        </p:nvGraphicFramePr>
        <p:xfrm>
          <a:off x="3657600" y="2743200"/>
          <a:ext cx="2514600" cy="1430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657600" y="2743200"/>
                    <a:ext cx="2514600" cy="14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1447920" y="1143000"/>
            <a:ext cx="4267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4 - 3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533520" y="2743200"/>
          <a:ext cx="2514600" cy="1430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743200"/>
                    <a:ext cx="2514600" cy="14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"/>
          <p:cNvGraphicFramePr/>
          <p:nvPr/>
        </p:nvGraphicFramePr>
        <p:xfrm>
          <a:off x="533520" y="4724280"/>
          <a:ext cx="2514600" cy="1430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520" y="4724280"/>
                    <a:ext cx="2514600" cy="14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1447920" y="1143000"/>
            <a:ext cx="4267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4 - 3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533520" y="2743200"/>
          <a:ext cx="2514600" cy="1430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743200"/>
                    <a:ext cx="2514600" cy="14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5334120" y="1066680"/>
            <a:ext cx="15238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1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676520" y="838080"/>
            <a:ext cx="4495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5 - 5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228600" y="2895480"/>
            <a:ext cx="8686800" cy="3419640"/>
            <a:chOff x="228600" y="2895480"/>
            <a:chExt cx="8686800" cy="3419640"/>
          </a:xfrm>
        </p:grpSpPr>
        <p:graphicFrame>
          <p:nvGraphicFramePr>
            <p:cNvPr id="354" name=""/>
            <p:cNvGraphicFramePr/>
            <p:nvPr/>
          </p:nvGraphicFramePr>
          <p:xfrm>
            <a:off x="228600" y="2895480"/>
            <a:ext cx="2743200" cy="1438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5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28600" y="2895480"/>
                      <a:ext cx="2743200" cy="143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6" name=""/>
            <p:cNvGraphicFramePr/>
            <p:nvPr/>
          </p:nvGraphicFramePr>
          <p:xfrm>
            <a:off x="3200400" y="3886200"/>
            <a:ext cx="2743200" cy="14382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5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200400" y="3886200"/>
                      <a:ext cx="2743200" cy="143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8" name=""/>
            <p:cNvGraphicFramePr/>
            <p:nvPr/>
          </p:nvGraphicFramePr>
          <p:xfrm>
            <a:off x="6172200" y="4876920"/>
            <a:ext cx="2743200" cy="14382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359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172200" y="4876920"/>
                      <a:ext cx="2743200" cy="143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60" name=""/>
            <p:cNvGraphicFramePr/>
            <p:nvPr/>
          </p:nvGraphicFramePr>
          <p:xfrm>
            <a:off x="6019920" y="2895480"/>
            <a:ext cx="2743200" cy="14385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361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019920" y="2895480"/>
                      <a:ext cx="2743200" cy="143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62" name=""/>
            <p:cNvGraphicFramePr/>
            <p:nvPr/>
          </p:nvGraphicFramePr>
          <p:xfrm>
            <a:off x="228600" y="4800600"/>
            <a:ext cx="2743200" cy="14382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363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28600" y="4800600"/>
                      <a:ext cx="2743200" cy="143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676520" y="838080"/>
            <a:ext cx="4495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5 - 5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228600" y="2895480"/>
          <a:ext cx="2743200" cy="143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2895480"/>
                    <a:ext cx="2743200" cy="14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"/>
          <p:cNvGraphicFramePr/>
          <p:nvPr/>
        </p:nvGraphicFramePr>
        <p:xfrm>
          <a:off x="3200400" y="3886200"/>
          <a:ext cx="2743200" cy="1438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00400" y="3886200"/>
                    <a:ext cx="2743200" cy="14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"/>
          <p:cNvGraphicFramePr/>
          <p:nvPr/>
        </p:nvGraphicFramePr>
        <p:xfrm>
          <a:off x="6019920" y="2895480"/>
          <a:ext cx="2743200" cy="1438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9920" y="2895480"/>
                    <a:ext cx="2743200" cy="14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1" name=""/>
          <p:cNvGraphicFramePr/>
          <p:nvPr/>
        </p:nvGraphicFramePr>
        <p:xfrm>
          <a:off x="228600" y="4800600"/>
          <a:ext cx="2743200" cy="1438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28600" y="4800600"/>
                    <a:ext cx="2743200" cy="14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676520" y="914400"/>
            <a:ext cx="43434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5 - 3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191120" y="2514600"/>
          <a:ext cx="1785960" cy="1598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91120" y="2514600"/>
                    <a:ext cx="1785960" cy="15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2362320" y="3733920"/>
          <a:ext cx="1785960" cy="1598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62320" y="3733920"/>
                    <a:ext cx="1785960" cy="15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7" name=""/>
          <p:cNvGrpSpPr/>
          <p:nvPr/>
        </p:nvGrpSpPr>
        <p:grpSpPr>
          <a:xfrm>
            <a:off x="457200" y="2590920"/>
            <a:ext cx="1862280" cy="3655800"/>
            <a:chOff x="457200" y="2590920"/>
            <a:chExt cx="1862280" cy="3655800"/>
          </a:xfrm>
        </p:grpSpPr>
        <p:graphicFrame>
          <p:nvGraphicFramePr>
            <p:cNvPr id="68" name=""/>
            <p:cNvGraphicFramePr/>
            <p:nvPr/>
          </p:nvGraphicFramePr>
          <p:xfrm>
            <a:off x="533520" y="4648320"/>
            <a:ext cx="1785960" cy="15984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33520" y="4648320"/>
                      <a:ext cx="1785960" cy="159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457200" y="2590920"/>
            <a:ext cx="1785960" cy="15984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457200" y="2590920"/>
                      <a:ext cx="1785960" cy="159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676520" y="838080"/>
            <a:ext cx="4495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5 - 5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28600" y="2895480"/>
          <a:ext cx="2743200" cy="143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2895480"/>
                    <a:ext cx="2743200" cy="14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" name=""/>
          <p:cNvGraphicFramePr/>
          <p:nvPr/>
        </p:nvGraphicFramePr>
        <p:xfrm>
          <a:off x="3200400" y="3886200"/>
          <a:ext cx="2743200" cy="1438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00400" y="3886200"/>
                    <a:ext cx="2743200" cy="14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8" name=""/>
          <p:cNvGraphicFramePr/>
          <p:nvPr/>
        </p:nvGraphicFramePr>
        <p:xfrm>
          <a:off x="228600" y="4800600"/>
          <a:ext cx="2743200" cy="1438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8600" y="4800600"/>
                    <a:ext cx="2743200" cy="14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676520" y="838080"/>
            <a:ext cx="4495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5 - 5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228600" y="2895480"/>
          <a:ext cx="2743200" cy="143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2895480"/>
                    <a:ext cx="2743200" cy="14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3" name=""/>
          <p:cNvGraphicFramePr/>
          <p:nvPr/>
        </p:nvGraphicFramePr>
        <p:xfrm>
          <a:off x="228600" y="4800600"/>
          <a:ext cx="2743200" cy="1438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" y="4800600"/>
                    <a:ext cx="2743200" cy="14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1676520" y="838080"/>
            <a:ext cx="4495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5 - 5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228600" y="2895480"/>
          <a:ext cx="2743200" cy="143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2895480"/>
                    <a:ext cx="2743200" cy="14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676520" y="838080"/>
            <a:ext cx="4495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5 - 5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638680" y="838080"/>
            <a:ext cx="1371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0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1905120" y="762120"/>
            <a:ext cx="43434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6 - 4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33520" y="2209680"/>
            <a:ext cx="6532560" cy="4400640"/>
            <a:chOff x="533520" y="2209680"/>
            <a:chExt cx="6532560" cy="4400640"/>
          </a:xfrm>
        </p:grpSpPr>
        <p:graphicFrame>
          <p:nvGraphicFramePr>
            <p:cNvPr id="392" name=""/>
            <p:cNvGraphicFramePr/>
            <p:nvPr/>
          </p:nvGraphicFramePr>
          <p:xfrm>
            <a:off x="609480" y="2209680"/>
            <a:ext cx="1808280" cy="2114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9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09480" y="2209680"/>
                      <a:ext cx="1808280" cy="211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94" name=""/>
            <p:cNvGraphicFramePr/>
            <p:nvPr/>
          </p:nvGraphicFramePr>
          <p:xfrm>
            <a:off x="2895480" y="2286000"/>
            <a:ext cx="1808280" cy="21146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9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895480" y="2286000"/>
                      <a:ext cx="1808280" cy="211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96" name=""/>
            <p:cNvGraphicFramePr/>
            <p:nvPr/>
          </p:nvGraphicFramePr>
          <p:xfrm>
            <a:off x="533520" y="4495680"/>
            <a:ext cx="1807920" cy="21146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39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33520" y="4495680"/>
                      <a:ext cx="1807920" cy="211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98" name=""/>
            <p:cNvGraphicFramePr/>
            <p:nvPr/>
          </p:nvGraphicFramePr>
          <p:xfrm>
            <a:off x="2819520" y="4495680"/>
            <a:ext cx="1807920" cy="21146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399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819520" y="4495680"/>
                      <a:ext cx="1807920" cy="211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0" name=""/>
            <p:cNvGraphicFramePr/>
            <p:nvPr/>
          </p:nvGraphicFramePr>
          <p:xfrm>
            <a:off x="5181480" y="4495680"/>
            <a:ext cx="1808280" cy="211464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401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5181480" y="4495680"/>
                      <a:ext cx="1808280" cy="211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2" name=""/>
            <p:cNvGraphicFramePr/>
            <p:nvPr/>
          </p:nvGraphicFramePr>
          <p:xfrm>
            <a:off x="5257800" y="2286000"/>
            <a:ext cx="1808280" cy="211464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403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5257800" y="2286000"/>
                      <a:ext cx="1808280" cy="211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1905120" y="762120"/>
            <a:ext cx="43434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6 - 4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609480" y="2209680"/>
          <a:ext cx="1808280" cy="211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209680"/>
                    <a:ext cx="1808280" cy="21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7" name=""/>
          <p:cNvGraphicFramePr/>
          <p:nvPr/>
        </p:nvGraphicFramePr>
        <p:xfrm>
          <a:off x="2895480" y="2286000"/>
          <a:ext cx="1808280" cy="2114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95480" y="2286000"/>
                    <a:ext cx="1808280" cy="21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9" name=""/>
          <p:cNvGraphicFramePr/>
          <p:nvPr/>
        </p:nvGraphicFramePr>
        <p:xfrm>
          <a:off x="533520" y="4495680"/>
          <a:ext cx="1807920" cy="2114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520" y="4495680"/>
                    <a:ext cx="1807920" cy="21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1" name=""/>
          <p:cNvGraphicFramePr/>
          <p:nvPr/>
        </p:nvGraphicFramePr>
        <p:xfrm>
          <a:off x="2819520" y="4495680"/>
          <a:ext cx="1807920" cy="2114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819520" y="4495680"/>
                    <a:ext cx="1807920" cy="21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3" name=""/>
          <p:cNvGraphicFramePr/>
          <p:nvPr/>
        </p:nvGraphicFramePr>
        <p:xfrm>
          <a:off x="5257800" y="2286000"/>
          <a:ext cx="1808280" cy="2114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257800" y="2286000"/>
                    <a:ext cx="1808280" cy="21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1905120" y="762120"/>
            <a:ext cx="43434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6 - 4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609480" y="2209680"/>
          <a:ext cx="1808280" cy="211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209680"/>
                    <a:ext cx="1808280" cy="21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8" name=""/>
          <p:cNvGraphicFramePr/>
          <p:nvPr/>
        </p:nvGraphicFramePr>
        <p:xfrm>
          <a:off x="2895480" y="2286000"/>
          <a:ext cx="1808280" cy="2114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95480" y="2286000"/>
                    <a:ext cx="1808280" cy="21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0" name=""/>
          <p:cNvGraphicFramePr/>
          <p:nvPr/>
        </p:nvGraphicFramePr>
        <p:xfrm>
          <a:off x="533520" y="4495680"/>
          <a:ext cx="1807920" cy="2114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520" y="4495680"/>
                    <a:ext cx="1807920" cy="21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2" name=""/>
          <p:cNvGraphicFramePr/>
          <p:nvPr/>
        </p:nvGraphicFramePr>
        <p:xfrm>
          <a:off x="5257800" y="2286000"/>
          <a:ext cx="1808280" cy="2114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257800" y="2286000"/>
                    <a:ext cx="1808280" cy="21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1905120" y="762120"/>
            <a:ext cx="43434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6 - 4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609480" y="2209680"/>
          <a:ext cx="1808280" cy="211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209680"/>
                    <a:ext cx="1808280" cy="21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7" name=""/>
          <p:cNvGraphicFramePr/>
          <p:nvPr/>
        </p:nvGraphicFramePr>
        <p:xfrm>
          <a:off x="2895480" y="2286000"/>
          <a:ext cx="1808280" cy="2114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2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95480" y="2286000"/>
                    <a:ext cx="1808280" cy="21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9" name=""/>
          <p:cNvGraphicFramePr/>
          <p:nvPr/>
        </p:nvGraphicFramePr>
        <p:xfrm>
          <a:off x="5257800" y="2286000"/>
          <a:ext cx="1808280" cy="2114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3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257800" y="2286000"/>
                    <a:ext cx="1808280" cy="21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1905120" y="762120"/>
            <a:ext cx="43434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6 - 4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609480" y="2209680"/>
          <a:ext cx="1808280" cy="211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209680"/>
                    <a:ext cx="1808280" cy="21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4" name=""/>
          <p:cNvGraphicFramePr/>
          <p:nvPr/>
        </p:nvGraphicFramePr>
        <p:xfrm>
          <a:off x="2895480" y="2286000"/>
          <a:ext cx="1808280" cy="2114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95480" y="2286000"/>
                    <a:ext cx="1808280" cy="21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6" name=""/>
          <p:cNvSpPr/>
          <p:nvPr/>
        </p:nvSpPr>
        <p:spPr>
          <a:xfrm>
            <a:off x="5867280" y="685800"/>
            <a:ext cx="1752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2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1981080" y="838080"/>
            <a:ext cx="41911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8 - 0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609480" y="3048120"/>
            <a:ext cx="8001000" cy="2743200"/>
            <a:chOff x="609480" y="3048120"/>
            <a:chExt cx="8001000" cy="2743200"/>
          </a:xfrm>
        </p:grpSpPr>
        <p:graphicFrame>
          <p:nvGraphicFramePr>
            <p:cNvPr id="439" name=""/>
            <p:cNvGraphicFramePr/>
            <p:nvPr/>
          </p:nvGraphicFramePr>
          <p:xfrm>
            <a:off x="609480" y="3048120"/>
            <a:ext cx="1600200" cy="1143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4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09480" y="3048120"/>
                      <a:ext cx="160020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41" name=""/>
            <p:cNvGraphicFramePr/>
            <p:nvPr/>
          </p:nvGraphicFramePr>
          <p:xfrm>
            <a:off x="2743200" y="3048120"/>
            <a:ext cx="1600200" cy="11430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44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743200" y="3048120"/>
                      <a:ext cx="160020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43" name=""/>
            <p:cNvGraphicFramePr/>
            <p:nvPr/>
          </p:nvGraphicFramePr>
          <p:xfrm>
            <a:off x="609480" y="4648320"/>
            <a:ext cx="1600200" cy="11430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44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09480" y="4648320"/>
                      <a:ext cx="160020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45" name=""/>
            <p:cNvGraphicFramePr/>
            <p:nvPr/>
          </p:nvGraphicFramePr>
          <p:xfrm>
            <a:off x="2743200" y="4648320"/>
            <a:ext cx="1600200" cy="11430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446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743200" y="4648320"/>
                      <a:ext cx="160020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47" name=""/>
            <p:cNvGraphicFramePr/>
            <p:nvPr/>
          </p:nvGraphicFramePr>
          <p:xfrm>
            <a:off x="4876920" y="4648320"/>
            <a:ext cx="1600200" cy="11430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448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876920" y="4648320"/>
                      <a:ext cx="160020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49" name=""/>
            <p:cNvGraphicFramePr/>
            <p:nvPr/>
          </p:nvGraphicFramePr>
          <p:xfrm>
            <a:off x="4876920" y="3048120"/>
            <a:ext cx="1600200" cy="114300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450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4876920" y="3048120"/>
                      <a:ext cx="160020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51" name=""/>
            <p:cNvGraphicFramePr/>
            <p:nvPr/>
          </p:nvGraphicFramePr>
          <p:xfrm>
            <a:off x="7010280" y="4648320"/>
            <a:ext cx="1600200" cy="114300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452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7010280" y="4648320"/>
                      <a:ext cx="160020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53" name=""/>
            <p:cNvGraphicFramePr/>
            <p:nvPr/>
          </p:nvGraphicFramePr>
          <p:xfrm>
            <a:off x="7010280" y="3048120"/>
            <a:ext cx="1600200" cy="114300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454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7010280" y="3048120"/>
                      <a:ext cx="160020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55" name=""/>
          <p:cNvSpPr/>
          <p:nvPr/>
        </p:nvSpPr>
        <p:spPr>
          <a:xfrm>
            <a:off x="5867280" y="838080"/>
            <a:ext cx="15242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8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676520" y="914400"/>
            <a:ext cx="43434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5 - 3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362320" y="3733920"/>
          <a:ext cx="1785960" cy="1598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3733920"/>
                    <a:ext cx="1785960" cy="15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5" name=""/>
          <p:cNvGrpSpPr/>
          <p:nvPr/>
        </p:nvGrpSpPr>
        <p:grpSpPr>
          <a:xfrm>
            <a:off x="457200" y="2590920"/>
            <a:ext cx="1862280" cy="3655800"/>
            <a:chOff x="457200" y="2590920"/>
            <a:chExt cx="1862280" cy="3655800"/>
          </a:xfrm>
        </p:grpSpPr>
        <p:graphicFrame>
          <p:nvGraphicFramePr>
            <p:cNvPr id="76" name=""/>
            <p:cNvGraphicFramePr/>
            <p:nvPr/>
          </p:nvGraphicFramePr>
          <p:xfrm>
            <a:off x="533520" y="4648320"/>
            <a:ext cx="1785960" cy="15984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33520" y="4648320"/>
                      <a:ext cx="1785960" cy="159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457200" y="2590920"/>
            <a:ext cx="1785960" cy="15984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457200" y="2590920"/>
                      <a:ext cx="1785960" cy="159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914400"/>
            <a:ext cx="43434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5 - 3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457200" y="2590920"/>
            <a:ext cx="1862280" cy="3655800"/>
            <a:chOff x="457200" y="2590920"/>
            <a:chExt cx="1862280" cy="3655800"/>
          </a:xfrm>
        </p:grpSpPr>
        <p:graphicFrame>
          <p:nvGraphicFramePr>
            <p:cNvPr id="82" name=""/>
            <p:cNvGraphicFramePr/>
            <p:nvPr/>
          </p:nvGraphicFramePr>
          <p:xfrm>
            <a:off x="533520" y="4648320"/>
            <a:ext cx="1785960" cy="1598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33520" y="4648320"/>
                      <a:ext cx="1785960" cy="159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457200" y="2590920"/>
            <a:ext cx="1785960" cy="15984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57200" y="2590920"/>
                      <a:ext cx="1785960" cy="159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6" name=""/>
          <p:cNvSpPr/>
          <p:nvPr/>
        </p:nvSpPr>
        <p:spPr>
          <a:xfrm>
            <a:off x="5638680" y="838080"/>
            <a:ext cx="16002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2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295280" y="762120"/>
            <a:ext cx="4648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6 - 3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457200" y="2514600"/>
            <a:ext cx="4697280" cy="3297240"/>
            <a:chOff x="457200" y="2514600"/>
            <a:chExt cx="4697280" cy="3297240"/>
          </a:xfrm>
        </p:grpSpPr>
        <p:graphicFrame>
          <p:nvGraphicFramePr>
            <p:cNvPr id="89" name=""/>
            <p:cNvGraphicFramePr/>
            <p:nvPr/>
          </p:nvGraphicFramePr>
          <p:xfrm>
            <a:off x="457200" y="2514600"/>
            <a:ext cx="1268280" cy="15447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57200" y="2514600"/>
                      <a:ext cx="1268280" cy="154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1" name=""/>
            <p:cNvGraphicFramePr/>
            <p:nvPr/>
          </p:nvGraphicFramePr>
          <p:xfrm>
            <a:off x="2133720" y="2514600"/>
            <a:ext cx="1268280" cy="15447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133720" y="2514600"/>
                      <a:ext cx="1268280" cy="154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3" name=""/>
            <p:cNvGraphicFramePr/>
            <p:nvPr/>
          </p:nvGraphicFramePr>
          <p:xfrm>
            <a:off x="533520" y="4267080"/>
            <a:ext cx="1268280" cy="15447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9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33520" y="4267080"/>
                      <a:ext cx="1268280" cy="154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5" name=""/>
            <p:cNvGraphicFramePr/>
            <p:nvPr/>
          </p:nvGraphicFramePr>
          <p:xfrm>
            <a:off x="2133720" y="4267080"/>
            <a:ext cx="1268280" cy="15447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96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133720" y="4267080"/>
                      <a:ext cx="1268280" cy="154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7" name=""/>
            <p:cNvGraphicFramePr/>
            <p:nvPr/>
          </p:nvGraphicFramePr>
          <p:xfrm>
            <a:off x="3886200" y="4267080"/>
            <a:ext cx="1268280" cy="15447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886200" y="4267080"/>
                      <a:ext cx="1268280" cy="154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9" name=""/>
            <p:cNvGraphicFramePr/>
            <p:nvPr/>
          </p:nvGraphicFramePr>
          <p:xfrm>
            <a:off x="3809880" y="2514600"/>
            <a:ext cx="1268640" cy="154476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3809880" y="2514600"/>
                      <a:ext cx="1268640" cy="154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295280" y="762120"/>
            <a:ext cx="4648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6 - 3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2514600"/>
          <a:ext cx="1268280" cy="154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514600"/>
                    <a:ext cx="1268280" cy="15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2133720" y="2514600"/>
          <a:ext cx="1268280" cy="1544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33720" y="2514600"/>
                    <a:ext cx="1268280" cy="15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533520" y="4267080"/>
          <a:ext cx="1268280" cy="1544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520" y="4267080"/>
                    <a:ext cx="1268280" cy="15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2133720" y="4267080"/>
          <a:ext cx="1268280" cy="1544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33720" y="4267080"/>
                    <a:ext cx="1268280" cy="15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3809880" y="2514600"/>
          <a:ext cx="1268640" cy="15447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809880" y="2514600"/>
                    <a:ext cx="1268640" cy="15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295280" y="762120"/>
            <a:ext cx="4648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6 - 3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7200" y="2514600"/>
          <a:ext cx="1268280" cy="154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514600"/>
                    <a:ext cx="1268280" cy="15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2133720" y="2514600"/>
          <a:ext cx="1268280" cy="1544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33720" y="2514600"/>
                    <a:ext cx="1268280" cy="15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533520" y="4267080"/>
          <a:ext cx="1268280" cy="1544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520" y="4267080"/>
                    <a:ext cx="1268280" cy="15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3809880" y="2514600"/>
          <a:ext cx="1268640" cy="1544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809880" y="2514600"/>
                    <a:ext cx="1268640" cy="15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295280" y="762120"/>
            <a:ext cx="4648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6 - 3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7200" y="2514600"/>
          <a:ext cx="1268280" cy="154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514600"/>
                    <a:ext cx="1268280" cy="15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2133720" y="2514600"/>
          <a:ext cx="1268280" cy="1544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33720" y="2514600"/>
                    <a:ext cx="1268280" cy="15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3809880" y="2514600"/>
          <a:ext cx="1268640" cy="1544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09880" y="2514600"/>
                    <a:ext cx="1268640" cy="15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5181480" y="685800"/>
            <a:ext cx="1447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3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3T21:24:35Z</dcterms:created>
  <dc:creator>Veronica</dc:creator>
  <dc:description/>
  <dc:language>en-US</dc:language>
  <cp:lastModifiedBy>Veronica</cp:lastModifiedBy>
  <dcterms:modified xsi:type="dcterms:W3CDTF">2001-02-17T11:58:53Z</dcterms:modified>
  <cp:revision>19</cp:revision>
  <dc:subject/>
  <dc:title>No Slide Title</dc:title>
</cp:coreProperties>
</file>