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86A6-EF68-4BDD-9A47-92AFF47A0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B5AB-8EC5-46E4-9939-3C525BD4E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6AFA-ED0B-4A27-AE39-5BF297868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CBF2-6B30-4469-80EE-C8E538675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8641-C270-4E67-A193-771636DB7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18A1-20BC-4702-80C6-D1B7D49C7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213F-4156-440E-A1B2-27CACC8E5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37B9-3C69-4636-BB24-12E728A8B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0439-90F4-4716-B038-FA9CD6F79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03A8-B4B7-4F18-936D-FEE2B2B3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73A2-A5C4-4AD0-BF4D-C25CD1E7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E471-FA0F-427E-A8A7-8D670792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DABE5-E0AA-43FB-A4C3-2B352151BC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: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: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: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: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20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: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: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: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: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1908000" y="1557360"/>
            <a:ext cx="8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92360" y="1844640"/>
            <a:ext cx="1079280" cy="703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: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48000" y="1844640"/>
            <a:ext cx="1079640" cy="703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: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59280" y="1844640"/>
            <a:ext cx="1079640" cy="703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: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372360" y="1844640"/>
            <a:ext cx="1079280" cy="703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: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92360" y="3860640"/>
            <a:ext cx="1079280" cy="703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: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48000" y="3860640"/>
            <a:ext cx="1079640" cy="703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: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859280" y="3933720"/>
            <a:ext cx="1079640" cy="703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: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372360" y="3933720"/>
            <a:ext cx="1079280" cy="703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: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55640" y="260280"/>
            <a:ext cx="756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26028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numbers would lie behind the ratios if they were ratios for a bag of 60 red and white ball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4T20:39:07Z</dcterms:created>
  <dc:creator>Teacher</dc:creator>
  <dc:description/>
  <dc:language>en-US</dc:language>
  <cp:lastModifiedBy>Teacher</cp:lastModifiedBy>
  <dcterms:modified xsi:type="dcterms:W3CDTF">2003-02-07T21:56:41Z</dcterms:modified>
  <cp:revision>3</cp:revision>
  <dc:subject/>
  <dc:title>Slide 1</dc:title>
</cp:coreProperties>
</file>