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0F2-F58A-4A98-AE82-7A98892E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8E6-EB6A-4A19-A9C0-8E0FB9F7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D27-FC0B-4450-A65B-9B62B02D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AD7-E7B4-40B2-B691-2682127A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157-20A5-4200-A47C-3C68DB8E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DDA-A9EF-478D-B4A2-197775DF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B5A-D3F6-4FEE-AA57-C7DC73A9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B0D-20AE-4D8E-BE41-754A1E88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E91-7A04-42F0-AD2A-F0613DC9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F5A-A302-4179-AA2B-4A587031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96F-7F48-4B84-B9EA-A845C65B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694-28E2-4D8F-95AA-687382BF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65FF-7C39-4988-84C3-811AECBD6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ixed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5468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eighth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911920"/>
            <a:ext cx="7620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is the answer below the question, either as an eighth or a quar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20:06:03Z</dcterms:modified>
  <cp:revision>4</cp:revision>
  <dc:subject/>
  <dc:title>PowerPoint Presentation</dc:title>
</cp:coreProperties>
</file>