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8E2-DCCC-4C9C-A59D-AB74526F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AE2-D916-4286-A10E-A6B08664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38E-BAFD-4E1A-90AE-443819C4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D8E-CA73-4DE6-888F-2E28A8E2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20B-DE17-4F75-BBFC-A740980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59D-F3EB-4CBE-902A-54906ABE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B17-58EA-43F4-9720-C489BF7C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91B-A704-4D62-B8FC-13C09585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76B-7D3D-41F4-9A7A-4D304F23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9AA-83A7-4B7A-9C18-388C4147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EB8-B3F9-44A8-BB18-99044C6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B03-4521-4908-A8F9-79068AF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213A-7413-4D45-9D12-DA135B7E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16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 curtain factory orders 2.5km of ribbon. They get a discount of 10% for a bulk order. How much do they pay for th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£110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£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£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£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you make a similar word problem of your own that uses metric lengths or weights and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35:28Z</dcterms:created>
  <dc:creator>Teacher</dc:creator>
  <dc:description/>
  <dc:language>en-US</dc:language>
  <cp:lastModifiedBy>Teacher</cp:lastModifiedBy>
  <dcterms:modified xsi:type="dcterms:W3CDTF">2003-02-23T14:35:36Z</dcterms:modified>
  <cp:revision>1</cp:revision>
  <dc:subject/>
  <dc:title>A  curtain factory orders 2.5km of ribbon. They get a discount of 10% for a bulk order. How much do they pay for the order?</dc:title>
</cp:coreProperties>
</file>