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359-802E-435B-B1B2-95D9CA6F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DA7-FAC0-4E60-8666-6AD38A4E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E4B-C2AB-4558-B0C3-EAD67BE4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28B-D0EA-47EA-8FC0-8DCBBECC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4EF-A84F-4929-B9AA-5C766DC6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826-4670-4E85-966B-8187C0DD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3CF-E85F-4509-ADBB-911B5C8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75E-4F66-4F0E-9B21-6F69FED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7D0-9EEA-47EA-B925-4DE3BD2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F17-06C9-43A1-AC02-680B742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F32-5620-4160-B599-BDC36A29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FEF-6A5A-47ED-90CC-CF85D3D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A9DC-3481-4D2E-8CDE-AEAA1DC1C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868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20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.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1440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unding Decimal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4:51:05Z</dcterms:modified>
  <cp:revision>1</cp:revision>
  <dc:subject/>
  <dc:title>PowerPoint Presentation</dc:title>
</cp:coreProperties>
</file>