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4890-3307-43F1-A6CB-A721CB4C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F61-F9C9-4AD7-9256-03E56BD6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220C-223D-4EBB-BB07-51A3488C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B92-A75A-45AD-BCB1-EAC2D4CD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7E6-9350-45BB-AA78-76971B8D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C36-0E6F-4AC8-A7D8-95B9545C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562-40D6-4861-AAAA-C305492F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1D53-CBB4-4778-A522-F88A3557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01D-F7F8-4B1B-8957-E9B5C637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B44-B2CD-4469-BE07-5B059FED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B56-EDCC-43AE-9A39-F60FD894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B5D-7FC1-40BE-B345-F1162178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9D4B-16EA-4A1E-9A76-47857ABDA2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"/>
            <a:ext cx="8229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rget Numbers – Addition and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267080"/>
            <a:ext cx="2209680" cy="2210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343400"/>
            <a:ext cx="221004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4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 0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160020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38080"/>
            <a:ext cx="152424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838080"/>
            <a:ext cx="144792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838080"/>
            <a:ext cx="137160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9144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make any of the circle numbers by subtracting, multiplying and adding any or all of the triangle numb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838080"/>
            <a:ext cx="15238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8:26:39Z</dcterms:created>
  <dc:creator>ok</dc:creator>
  <dc:description/>
  <dc:language>en-US</dc:language>
  <cp:lastModifiedBy>ok</cp:lastModifiedBy>
  <dcterms:modified xsi:type="dcterms:W3CDTF">2003-08-28T12:16:52Z</dcterms:modified>
  <cp:revision>3</cp:revision>
  <dc:subject/>
  <dc:title>PowerPoint Presentation</dc:title>
</cp:coreProperties>
</file>