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383-5717-44CD-B86C-9352C81A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81A-68D0-4B0A-B6D5-503DE302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E05-DB49-4963-901F-1FFC4509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339-7759-46E4-8621-D665DFF4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38C-A790-4955-B442-4006CBC7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2E00-2EFC-471C-82E9-DB57A900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9A8-F407-41D2-925F-7351F7C9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130-902C-496B-B6FE-09B8B31D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952-B6D8-413E-9064-AF67D585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F28-875D-429B-BE91-31883602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3DD-9AE3-4EBC-BE96-B4ACE120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DD5-208A-4C9D-A52E-CFAF275D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6934-6708-4596-A53D-3C1B52B0D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nd all the correct answers on the RIGHT when dividing the numbers on the LEFT by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84464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184464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78136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278136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78936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63640" y="378936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72428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472428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73408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573408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96360" y="177336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177336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67640" y="263700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263700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96360" y="364500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364500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96360" y="458136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84720" y="450864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67640" y="551664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551664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8:24:35Z</dcterms:created>
  <dc:creator>Teacher</dc:creator>
  <dc:description/>
  <dc:language>en-US</dc:language>
  <cp:lastModifiedBy>Teacher</cp:lastModifiedBy>
  <dcterms:modified xsi:type="dcterms:W3CDTF">2003-03-05T08:29:18Z</dcterms:modified>
  <cp:revision>2</cp:revision>
  <dc:subject/>
  <dc:title>Slide 1</dc:title>
</cp:coreProperties>
</file>