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C76A-7868-4356-B827-05719614E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BC31-0CDF-4E5F-9A1C-AC5E54782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E8C9-527A-4292-85AC-746EA3FE1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5467-DE3F-4C8E-AF66-2821855BB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4317-B47D-46FC-BF86-85BACD7D9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19FD-BBD4-4FB0-B2A4-13BAE76E9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E631-9C1E-47E7-AB1D-65C703228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13E7-30F2-44F2-B3B0-B98782947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FAF6-474D-4576-A225-CB3743A20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F41C-3247-4B93-9688-CB48C4C9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1602-6763-44E3-8C2B-124876DC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7838-F99C-43A1-82A0-B2ED1448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E1240-44D9-4DFC-95BC-2ED234F0CAC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8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380880"/>
            <a:ext cx="7848720" cy="5814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l Wrong - Subt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1447920"/>
            <a:ext cx="3200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320 - 180 = 1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943600"/>
            <a:ext cx="9144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Find the correct answers for these subtractions, showing how you found the answer for each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2362320"/>
            <a:ext cx="3200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220 - 170 = 4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3276720"/>
            <a:ext cx="3200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620 - 230 = 35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4114800"/>
            <a:ext cx="3200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940 - 180 = 56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4952880"/>
            <a:ext cx="3200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550 - 210 = 4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410080" y="1447920"/>
            <a:ext cx="3200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730 - 570 = 26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410080" y="2362320"/>
            <a:ext cx="3200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280 - 190 = 1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10080" y="3276720"/>
            <a:ext cx="3200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440 - 170 = 36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10080" y="4114800"/>
            <a:ext cx="3200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530 - 160 = 38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10080" y="4952880"/>
            <a:ext cx="3200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890 - 380 = 7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9:46:19Z</dcterms:created>
  <dc:creator>ok</dc:creator>
  <dc:description/>
  <dc:language>en-US</dc:language>
  <cp:lastModifiedBy>ok</cp:lastModifiedBy>
  <dcterms:modified xsi:type="dcterms:W3CDTF">2003-08-28T12:33:07Z</dcterms:modified>
  <cp:revision>2</cp:revision>
  <dc:subject/>
  <dc:title>PowerPoint Presentation</dc:title>
</cp:coreProperties>
</file>