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0FE-3CC3-4A6B-8C0C-E832CFB4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47D-96B4-4E0B-9CA3-5F19E7A5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DB7-FBF5-4C92-9409-9C47AE47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DFD-A043-472A-B483-D52C4E33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6A6-6A32-485F-945B-34C109DA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99F-FC94-4474-A9D5-ED081F10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7D1-17D5-4F67-BF47-28ECD18E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46B-3762-41DA-8EB6-DAA82DD4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B16-F0C7-4AAC-B84A-AEEEA5D6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69C-BB04-4E57-B26B-336C80A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331-C790-42EF-8FE0-AE7ED5EA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415-7DF0-4473-A16D-EFB24782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F248-DE4B-46D9-8F54-CF6564815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Finding halve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685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971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114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c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41008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685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828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89548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o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962520"/>
            <a:ext cx="2666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o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5105520"/>
            <a:ext cx="2666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o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209680"/>
            <a:ext cx="2057400" cy="2531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6:19:33Z</dcterms:modified>
  <cp:revision>1</cp:revision>
  <dc:subject/>
  <dc:title>PowerPoint Presentation</dc:title>
</cp:coreProperties>
</file>