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55EB-C027-427F-82FF-D94AEE179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EEC4-17B5-487D-B193-7096BB4F9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1548-49B4-49CA-AC6A-75FA19ACF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C945-9405-4C9F-8701-BC5BEC59E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7501-1B80-4D91-A4F6-A5A092939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563B-276C-4297-9E8F-C0D73102F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3557-0A3E-4AEC-8580-CB7DE3F30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EC50-60D0-4F4D-A64C-2DB1A2C0F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4FD2-A534-463C-BBF8-359526C0E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5753-4B5B-4215-8101-AF0F7B8C4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5D47-D3BE-4D77-A824-69E7B4587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47AE-29E3-4135-BF17-F854F371A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15231-7C4F-42ED-BF1D-804D0EA530A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228600" y="0"/>
            <a:ext cx="937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ltiplying by 10 and then adding and subtrac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447920" y="2514600"/>
          <a:ext cx="6095880" cy="381924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  <a:gridCol w="2032200"/>
              </a:tblGrid>
              <a:tr h="38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0" y="990720"/>
            <a:ext cx="914400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nd a way of making each target number by multiplying a number, such as 40, and then adding or subtracting to reach the number. Example: 40 multiplied by 3 is 120, take away 4 equal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1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4:50:12Z</dcterms:created>
  <dc:creator>ok</dc:creator>
  <dc:description/>
  <dc:language>en-US</dc:language>
  <cp:lastModifiedBy>ok</cp:lastModifiedBy>
  <dcterms:modified xsi:type="dcterms:W3CDTF">2003-08-27T15:50:50Z</dcterms:modified>
  <cp:revision>4</cp:revision>
  <dc:subject/>
  <dc:title>PowerPoint Presentation</dc:title>
</cp:coreProperties>
</file>