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3F6-4304-4A92-A4B3-F832F58D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5B8-DFD3-4689-9E21-09017ACA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995-B2B2-4A5A-944F-0669EF41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BEE-6C24-4E62-AFFF-298153CD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72A-FD58-49E0-A9A1-A752B03C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2A1-5E22-4B4D-8E14-06B386E9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A64-4EE8-4D9F-8E8B-4FD6DBB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F3A-6CB8-48D4-BFBF-7D1C08D3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B8B-6538-448E-A52B-0C08358F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A1A-EF4E-4D7F-AB64-6DB015DE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8D8-FE51-4163-9BFC-5E86951B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7F1-C8B8-476A-8923-7184824E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5E2-2994-4DA5-9083-4D4CE4F854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ing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multiplying a number and then adding or subtracting  a numb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5 to reach the number. Example: 40 multiplied by 5 is 200, take away 7 equals 1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8:45:19Z</dcterms:modified>
  <cp:revision>5</cp:revision>
  <dc:subject/>
  <dc:title>PowerPoint Presentation</dc:title>
</cp:coreProperties>
</file>