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E92-D156-4931-B770-2E6E0702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7F2-E5E4-4E4C-BD30-E9C649AC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EE3-364C-41C6-AF26-9E5D67F3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794-C756-48AB-913C-FD36F7A7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397-322D-433E-9A15-BBCC67D0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FB4-3BD4-4ADC-A39C-24563185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A1E-7B58-4BDA-AF69-61F57445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DFE-8475-4F11-B36A-69378BDC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81C-408A-4A24-9909-4A441F3A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1C0-49E5-41C9-9F21-4BDE7DF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318-627F-48CC-8941-9A56E054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392-B222-48D1-9688-DAEFF8FE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9F68-266F-4982-BA10-F1EE0AF35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Me by Multiplying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dividing a two digit number by a one digit number and then adding or subtracting  to reach the number. Example: 40 divided by 5 is 8, plus 5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8T14:51:24Z</dcterms:modified>
  <cp:revision>6</cp:revision>
  <dc:subject/>
  <dc:title>PowerPoint Presentation</dc:title>
</cp:coreProperties>
</file>