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357-B4FA-4B49-8FCA-C502F3F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523-16EE-4C5D-BE51-6AA29BC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5CB-98B2-4E13-95D4-85B7D4C7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12D-7C55-4B55-B80E-BA1E873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CB3-B807-434A-A476-F27EB719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C67-8F53-467D-8C3D-1909C5E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DBF-98C0-499A-999E-A385EDCE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F5E-5A69-413F-9E31-8E6D1D5E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B2C-4E6F-4CC1-8694-2EAE4A3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B44-4BBF-488D-8390-2CDDDA4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6C2-0F0B-43AA-9226-C1EF6A5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DAE-4E70-4AAF-95BA-835AA14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348-DBEC-45A4-B38A-C00255A57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991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Wrong – Addition of positive and nega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6 + 7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rrect answers for these additions, using a number line to help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2 + - 3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 + 10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01 + -25 = 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8 + 64 = 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1 + - 15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8 + -16 = 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9 + -17 =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30 + 16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 + -38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5:09:16Z</dcterms:modified>
  <cp:revision>3</cp:revision>
  <dc:subject/>
  <dc:title>PowerPoint Presentation</dc:title>
</cp:coreProperties>
</file>