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8BE-72F9-4C9E-805E-A4AD5801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7661-F1CE-4767-B9A7-073E3FD5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6D6-C4D7-4AC4-BE9B-6B2A4507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2CD-5A8B-408C-B859-4A093E10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8F8-4E00-41AB-AAAE-1E06DECE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7EE-A860-412D-807E-227F5A5D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50F-CF47-41BD-976F-EE96EE8C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FB1-458C-42FB-AF3E-5F54CBAF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2CA-991A-42DB-9577-C08BCEEB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F45-24A5-4388-8CF6-15206B88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9CA-B441-4804-BF0A-5D365282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4A2-8921-4D5C-BCB9-773F1A74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7839-7217-4B9A-9FBB-BE06576E6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4582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All Wrong – Multiplication</a:t>
            </a:r>
            <a:r>
              <a:rPr b="1" i="1" lang="en-US" sz="36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371600"/>
          <a:ext cx="8229600" cy="39402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x 20 = 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x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5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 x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6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x 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x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 x 20 = 1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 x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2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x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2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x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9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x 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09480" y="5715000"/>
            <a:ext cx="81536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ork out and explain what is wrong with each multiplication and find the correct 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58Z</dcterms:created>
  <dc:creator>ok</dc:creator>
  <dc:description/>
  <dc:language>en-US</dc:language>
  <cp:lastModifiedBy>ok</cp:lastModifiedBy>
  <dcterms:modified xsi:type="dcterms:W3CDTF">2003-08-27T15:36:24Z</dcterms:modified>
  <cp:revision>2</cp:revision>
  <dc:subject/>
  <dc:title>PowerPoint Presentation</dc:title>
</cp:coreProperties>
</file>