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7DBC-2A4E-42C7-9F84-0565BF2D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A1E2-E580-48ED-9F22-AC8FBE2C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FB1B-1062-4543-9FCA-096D891F2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AFC1-1AB5-4A00-B933-D3D7DD452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AF18-1AD3-42D5-B975-80953A49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F416-0994-4F2C-A889-F3996E92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1AE5-59D3-4CFD-BECA-C999877C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EBF2-A269-4D49-B9AD-B39EAFBC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0269-5C64-45B7-9457-5C9B2A71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9F4C-B383-44D4-A394-8B50CBF2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3982-9C73-40B9-9578-200D61AB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6079-BC20-4A46-BF9A-41BE9841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7D21-2B30-41C1-8404-A6EBF04D7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2920" cy="1470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time would you arrive in each city if you left Heathrow airport at 9:00 a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68360" y="2205000"/>
          <a:ext cx="8351640" cy="3255840"/>
        </p:xfrm>
        <a:graphic>
          <a:graphicData uri="http://schemas.openxmlformats.org/drawingml/2006/table">
            <a:tbl>
              <a:tblPr/>
              <a:tblGrid>
                <a:gridCol w="1193760"/>
                <a:gridCol w="1192320"/>
                <a:gridCol w="1423800"/>
                <a:gridCol w="961920"/>
                <a:gridCol w="1308240"/>
                <a:gridCol w="1077840"/>
                <a:gridCol w="1193760"/>
              </a:tblGrid>
              <a:tr h="108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Y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 Francis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c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ij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h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dif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8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 ho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8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5.5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ight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ho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14:26:42Z</dcterms:created>
  <dc:creator>Teacher</dc:creator>
  <dc:description/>
  <dc:language>en-US</dc:language>
  <cp:lastModifiedBy>Teacher</cp:lastModifiedBy>
  <dcterms:modified xsi:type="dcterms:W3CDTF">2003-02-23T14:36:43Z</dcterms:modified>
  <cp:revision>2</cp:revision>
  <dc:subject/>
  <dc:title>What time would you arrive in each city if you left Heathrow airport at 9:00 am?</dc:title>
</cp:coreProperties>
</file>