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9A3-C154-46BF-9D34-51EEEC27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6CE-9017-4615-9B7C-215261E0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29B-4C6B-4728-A022-4EC877C1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537-CABD-4D20-95B1-5BDA75FE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307-13CD-436E-80B2-032BB395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FEE-6DC2-4FAD-80E0-5BB2E81F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233B-F64A-4A58-8BB1-F5B5E53F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10EE-C325-48F9-A3A9-D9252AF2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91B-58A0-40E8-AA31-9CFB75A4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874-E3CD-4DA4-BDC0-339507C2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8AB-7ACF-4183-BDAB-BA08A4A8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3A2-8EDC-4638-BEBB-9093D3E7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4F6A-F92E-4527-86A9-466E39548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raction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¼ of 168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3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7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9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5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8 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0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4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4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5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0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5/8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5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7/9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2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7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15772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4/11 of half of 17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23:13Z</dcterms:created>
  <dc:creator>Teacher</dc:creator>
  <dc:description/>
  <dc:language>en-US</dc:language>
  <cp:lastModifiedBy>Teacher</cp:lastModifiedBy>
  <dcterms:modified xsi:type="dcterms:W3CDTF">2003-03-27T20:00:19Z</dcterms:modified>
  <cp:revision>3</cp:revision>
  <dc:subject/>
  <dc:title>Slide 1</dc:title>
</cp:coreProperties>
</file>