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291-2835-4506-8203-5CCB55F7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905-9ADD-4237-8699-FE1432B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B1D-03AF-4EC8-97C4-A45C3BFE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691-28D4-479D-99BC-754E331C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186-8705-4837-92D9-86025C1D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D0B-055A-4CF1-B7B9-7845F7D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C81-E336-430F-923F-EC65C53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1FB-1F3C-4502-875A-11C7A36C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CEF-2ED8-48D6-B5E5-8434D8F9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8E0-5411-43C5-866C-EBB42F9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16C-933C-407A-9C46-AB33E66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415-32A0-4071-A406-1FAF734E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A05-5351-495C-8A34-9481C77577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x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47:45Z</dcterms:modified>
  <cp:revision>2</cp:revision>
  <dc:subject/>
  <dc:title>PowerPoint Presentation</dc:title>
</cp:coreProperties>
</file>