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19D-7157-4C1D-8728-D0F25D58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BC08-8C04-43B3-B6D8-8297AE38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739-2E7A-4E80-8E8A-9BF04D06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6F0-0889-4925-BBBA-55676A49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431-357D-418B-BCF7-89E32FF2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CDE-71CB-4B2C-994C-F842BD0A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46F-65C0-4439-8BFF-0C9BF7F8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AED-0E3B-435E-A925-590B3ED8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647-2366-4FD0-8E30-C40A2A99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ACB-EFA9-4FDD-B039-3565F50F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439-BF2C-497E-B15B-2D739F5E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955-037B-432E-A2FF-44474DD0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D8FF-5027-4C72-8EFD-5E105A7E20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Common Mult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914400" y="5791320"/>
            <a:ext cx="7620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is th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mon multiple, other than 1, for these two numbers? Lift the green cover to answer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and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and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 and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and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and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and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and 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 and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and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and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7:42:10Z</dcterms:modified>
  <cp:revision>3</cp:revision>
  <dc:subject/>
  <dc:title>PowerPoint Presentation</dc:title>
</cp:coreProperties>
</file>