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F96-A3EA-4355-BE15-B359CA7C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4FF-F6CF-4AF0-A4F1-213D2024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12F-5A92-4717-877C-CD4845B1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78CB-02CC-42F3-A0FB-7FE537B9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FA9-82AB-458B-BEF3-0A00AA96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FD2-570F-444E-8A14-0BAE7651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A0D4-F9D6-4F44-AA5F-42E3F219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DFF-1D5B-43A8-AD26-D13560CE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369-4A8D-4E35-8B31-C8C03F29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536-2FC5-4186-8EA2-9C4F12B2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DC55-4442-46F4-B154-87DAE678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B08-697B-434F-B845-CC99A722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C958-57FA-491F-9968-6994360DA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1052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e = 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1916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ef =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1052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f =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48360" y="1844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d=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c =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2781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eo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3716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ec 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9640" y="364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io =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4508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b =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ho = 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18900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558972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out what number each letter repres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22:01:46Z</dcterms:created>
  <dc:creator>Teacher</dc:creator>
  <dc:description/>
  <dc:language>en-US</dc:language>
  <cp:lastModifiedBy>Teacher</cp:lastModifiedBy>
  <dcterms:modified xsi:type="dcterms:W3CDTF">2003-03-03T22:02:21Z</dcterms:modified>
  <cp:revision>2</cp:revision>
  <dc:subject/>
  <dc:title>Slide 1</dc:title>
</cp:coreProperties>
</file>