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9097-9E6E-43AA-B86A-A9BEB62E5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A2DD-8B12-4025-A363-4BBBFF3D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6895-6D5C-406D-9B0B-EC76FA816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BDB8-4C6B-4CF0-B00D-D126AD007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6B77-E818-4057-A69B-C0A8C901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7EB8-974F-4E11-8BCE-4E109E61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8E9F-B3EF-45ED-BE2E-CFC39248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53D9-244B-4FCC-8659-5EBC3DAC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F620-F304-4CAD-BF0D-D076E022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0E3C-A939-40C1-A20D-73D71039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0FD6-4341-47DC-B82F-EC9D258E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3B96-BA8D-41FB-9AA8-5F77884B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9B7F-C072-4794-9525-EEB3D6E79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viding by 10 and then adding and subtrac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447920" y="2514600"/>
          <a:ext cx="6095880" cy="381924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38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0" y="990720"/>
            <a:ext cx="91440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a way of making each target number by dividing a 2 digit number, such as 20, and then adding or subtracting to reach the number. Example: 30 divided by 3 is 10, take away 4.6 equal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4:50:12Z</dcterms:created>
  <dc:creator>ok</dc:creator>
  <dc:description/>
  <dc:language>en-US</dc:language>
  <cp:lastModifiedBy>ok</cp:lastModifiedBy>
  <dcterms:modified xsi:type="dcterms:W3CDTF">2003-08-27T15:13:32Z</dcterms:modified>
  <cp:revision>3</cp:revision>
  <dc:subject/>
  <dc:title>PowerPoint Presentation</dc:title>
</cp:coreProperties>
</file>