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965-D8E7-487F-A566-D1636A97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67B-9F31-426B-8105-AAB45CBF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ED9-D60B-416B-A200-E982DC54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ED0-0D11-4796-8385-4C103423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1D7-837A-4E3B-BA5D-02B50576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731-F269-4090-935F-A2CC9148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C42-3AC9-41C8-BAD7-EB4D39E9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2C5-44A1-4175-B81B-C02DF5A0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977-583E-455E-A47D-DFC5BAB3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083-C98F-426C-95C0-0A41CB0E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ECEA-F997-4246-8045-18D0C2C5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B7F-1C06-4B17-BA17-4CB97ABF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9AFA-B57F-468C-8F7C-CBC757703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47628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coins below will still be available tomorrow morning. However, the 1p coin will be withdrawn after today. Which amounts of money will it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poss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make in the mor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2565360"/>
            <a:ext cx="936720" cy="1008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285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708280"/>
            <a:ext cx="792000" cy="720720"/>
          </a:xfrm>
          <a:prstGeom prst="octagon">
            <a:avLst>
              <a:gd name="adj" fmla="val 292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36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285264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3640" y="4221000"/>
            <a:ext cx="1081080" cy="1224000"/>
          </a:xfrm>
          <a:prstGeom prst="donut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4581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£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48360" y="4076640"/>
            <a:ext cx="1224000" cy="1368360"/>
          </a:xfrm>
          <a:prstGeom prst="octagon">
            <a:avLst>
              <a:gd name="adj" fmla="val 292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450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2565360"/>
            <a:ext cx="865440" cy="863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1672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278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3933720"/>
            <a:ext cx="1440000" cy="1366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3:50:32Z</dcterms:created>
  <dc:creator>Teacher</dc:creator>
  <dc:description/>
  <dc:language>en-US</dc:language>
  <cp:lastModifiedBy>Teacher</cp:lastModifiedBy>
  <dcterms:modified xsi:type="dcterms:W3CDTF">2003-02-23T13:54:04Z</dcterms:modified>
  <cp:revision>2</cp:revision>
  <dc:subject/>
  <dc:title>Slide 1</dc:title>
</cp:coreProperties>
</file>