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9CFC-0DBA-4082-A146-BCE1ACF1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50C0-27B5-49AC-9ED4-4DF08F88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C768-A8D3-4B2A-8CC9-93A2AFC2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65F-1835-4CC7-A53D-9030C182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F5F4-5291-4A8C-9D92-AC640314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76F-34FE-413F-9E58-F5371F44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7954-6A6A-420B-B5DB-2A103130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585-9955-4609-A95B-DEAD278B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3DF-5A77-4C9A-B1CC-38AF2A61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DCAB-8B66-4DFD-9217-985B9472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6BDC-F5E2-4F42-8542-2CB3386B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153-39BB-46B2-A1DB-0F28FD40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F362-7C74-42C2-BE74-4DD4A1265B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28600"/>
            <a:ext cx="739116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des – Multiplication to 10 x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2193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9144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.b + c.a = 6.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5334120"/>
            <a:ext cx="8076960" cy="132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git does each letter repres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e – o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c + d.d =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124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.b + o.e = 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990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.d  + o.c =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9625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.e + a.c = d.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2057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.i + e.f =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31240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.g + o.a = 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6:19:20Z</dcterms:created>
  <dc:creator>ok</dc:creator>
  <dc:description/>
  <dc:language>en-US</dc:language>
  <cp:lastModifiedBy>ok</cp:lastModifiedBy>
  <dcterms:modified xsi:type="dcterms:W3CDTF">2003-08-28T14:35:37Z</dcterms:modified>
  <cp:revision>4</cp:revision>
  <dc:subject/>
  <dc:title>PowerPoint Presentation</dc:title>
</cp:coreProperties>
</file>