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2B5-BF47-421B-A3D2-A2A7B8A4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EBE-C3E1-435F-8D99-EEE88628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A25-DFD4-48E3-9F33-F40FE22C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48B-ED6B-4D06-9230-1840C184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4E0-D25E-46E2-A444-0437992B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77A-BAC3-4BBA-B350-ED0FC591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BDB-65D7-47B7-A646-6918CFBD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667-615D-49F5-9A7A-4BF144DF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29B-EB5E-4C58-A6C2-5341F49F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79C-29C5-4D3C-8E23-A718A558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4E1-3C7E-4737-AB9D-D5DD8E75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4E9-8698-4B32-8879-3356D51D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F1AB-F39C-4E5C-AA40-02EBD19712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All Wrong – Addition</a:t>
            </a:r>
            <a:r>
              <a:rPr b="1" i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371600"/>
          <a:ext cx="8229600" cy="391464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+ 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+ 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 + 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+ 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+ 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+ 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+ 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09480" y="5715000"/>
            <a:ext cx="81536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k out and explain what is wrong with each addition to 100 and find the correct answers. What needs to be added to the red numbers to mak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58Z</dcterms:created>
  <dc:creator>ok</dc:creator>
  <dc:description/>
  <dc:language>en-US</dc:language>
  <cp:lastModifiedBy>ok</cp:lastModifiedBy>
  <dcterms:modified xsi:type="dcterms:W3CDTF">2003-08-27T17:01:27Z</dcterms:modified>
  <cp:revision>3</cp:revision>
  <dc:subject/>
  <dc:title>PowerPoint Presentation</dc:title>
</cp:coreProperties>
</file>