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2AB-2FE7-4D69-ADDA-7141E3BD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247-EDB2-45CF-912F-BA1420E2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CD8-B423-4448-9A8B-D3791040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88C-2557-4982-A3CF-4D9AA67B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E4B-DD69-481E-85EE-855F0DD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689-776F-446C-A311-B0618A20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9B9-6AF3-4DE3-B975-A2D7522B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D1B-4C5C-4267-AFCB-688FB194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12E-150E-4A5F-9919-8270FDE7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A01-8297-4D6A-876E-FA6D00B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366-8DA4-4755-8E7A-50E639E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393-9704-40E4-9A3B-695522D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6A9B-6EB0-4EDB-AA0A-B4FC4481B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98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98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98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907920"/>
            <a:ext cx="93528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84464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1916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1916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84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2781360"/>
            <a:ext cx="93492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78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0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40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86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00536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4941720"/>
            <a:ext cx="93492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486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4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189000"/>
            <a:ext cx="734544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Round 2 place decimal numbers to the nearest who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98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68360" y="18432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2781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1:08:05Z</dcterms:created>
  <dc:creator>Teacher</dc:creator>
  <dc:description/>
  <dc:language>en-US</dc:language>
  <cp:lastModifiedBy>Teacher</cp:lastModifiedBy>
  <dcterms:modified xsi:type="dcterms:W3CDTF">2003-02-12T09:14:18Z</dcterms:modified>
  <cp:revision>3</cp:revision>
  <dc:subject/>
  <dc:title>Slide 1</dc:title>
</cp:coreProperties>
</file>