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114A-9ABE-41B0-8869-403C589A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11D3-954E-4C35-9A2D-811B7889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7906-7F37-4082-91A0-95D301D0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7B92-0881-4D8C-886B-022713690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2821-896E-451E-94A2-D64968AF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DA06-55D4-4445-BA61-7331DF33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E0A5-38CD-41FF-AFC5-A160AF77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8CF2-E95B-4727-8901-774620BA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FB29-5569-4692-ADA1-E71F030F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2C6B-7C20-488E-9F72-B6AB4CC3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F233-2A7A-4618-ABCE-16521EB5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CCF6-67F1-4AE8-8BC7-EACAF30B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C93D-8E8C-42AA-9D6D-0CC8954F2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28600"/>
            <a:ext cx="82296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rget Numbers – Plac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267080"/>
            <a:ext cx="2209680" cy="22100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4343400"/>
            <a:ext cx="2210040" cy="2209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19720" y="4419720"/>
            <a:ext cx="2209680" cy="2209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29400" y="4419720"/>
            <a:ext cx="2209680" cy="2209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38080"/>
            <a:ext cx="220968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838080"/>
            <a:ext cx="220968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838080"/>
            <a:ext cx="221004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705720" y="838080"/>
            <a:ext cx="220968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00400"/>
            <a:ext cx="914400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you make any of the circle numbers by multiplying and adding any or all of the triangle numb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8:26:39Z</dcterms:created>
  <dc:creator>ok</dc:creator>
  <dc:description/>
  <dc:language>en-US</dc:language>
  <cp:lastModifiedBy>ok</cp:lastModifiedBy>
  <dcterms:modified xsi:type="dcterms:W3CDTF">2003-08-27T18:27:13Z</dcterms:modified>
  <cp:revision>1</cp:revision>
  <dc:subject/>
  <dc:title>PowerPoint Presentation</dc:title>
</cp:coreProperties>
</file>