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914-64D6-4E88-BFB9-38394A6A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CBD-6377-4FEF-B023-325978D6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1CD-11AD-411F-8C54-7892C660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3FB-03E2-476A-B758-2F03DA1F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A7B-3A7D-445A-9FA2-2FC72185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211-9E5E-44D1-A714-B6DB9C1E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219-28ED-40D0-A767-61FD00DF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7EF-F9DD-4BA1-ACB9-D2239F3E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687-5268-497F-9925-04D19FF8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C3EF-316B-4B11-BC41-05CEDAC3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20F-34D0-46B3-B52D-00A5F1E7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1E3-B515-48BF-8E40-319D34AC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3C78-37D5-4CA8-AFFC-ABB9705D33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ddition and Sub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1066680"/>
          <a:ext cx="7925040" cy="51278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981080"/>
                <a:gridCol w="198144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Makes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Makes 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.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.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.5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3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.3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7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must we add to the first and third columns to make 1 or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19Z</dcterms:created>
  <dc:creator>ok</dc:creator>
  <dc:description/>
  <dc:language>en-US</dc:language>
  <cp:lastModifiedBy>ok</cp:lastModifiedBy>
  <dcterms:modified xsi:type="dcterms:W3CDTF">2003-08-28T12:24:27Z</dcterms:modified>
  <cp:revision>2</cp:revision>
  <dc:subject/>
  <dc:title>PowerPoint Presentation</dc:title>
</cp:coreProperties>
</file>