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83B-394D-4BB0-9F8A-E5BA6AE1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500-6E9F-4437-8DE3-32F9FAF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45F-8606-49D8-8D15-B162519F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806-85FD-4F48-85CA-8434A352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166-F67E-496B-9A8A-5D95B86D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1CF-067F-4AED-8CE1-240A29D2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9B8-E023-47E4-AC51-0E318355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547-C9C8-409A-AA13-E7996E5F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7C4-129F-40FC-A6E8-7A9DAE3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6A8-B31C-4677-8AF5-0712D1C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FD8-7EA9-43DA-A8C0-520BC0B8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AA2-DEE6-48E6-9856-00544B2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BBC-F5EB-4413-9B61-A896B09D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116000" y="333360"/>
            <a:ext cx="7343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hat number do you need to add to get …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13372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85264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50028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4221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869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213372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285264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350028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221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869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0:53:00Z</dcterms:created>
  <dc:creator>Teacher</dc:creator>
  <dc:description/>
  <dc:language>en-US</dc:language>
  <cp:lastModifiedBy>Teacher</cp:lastModifiedBy>
  <dcterms:modified xsi:type="dcterms:W3CDTF">2003-02-09T20:56:23Z</dcterms:modified>
  <cp:revision>2</cp:revision>
  <dc:subject/>
  <dc:title>Slide 1</dc:title>
</cp:coreProperties>
</file>