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AFD-9680-47C2-9BC9-28068A4D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0E3-DAEC-4C07-8F6D-C976FF6B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FCF-232C-4D9B-9526-BB98E507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9BB-3FD5-44AC-A57F-1BDE9AA5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05C-A5BA-491F-9A9B-EBF1D31D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F19-B1CB-449D-9B5B-59DFEC33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BB9-F817-4893-BA3F-58C5AA0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C53-3302-4920-A515-4008C771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F24-7F81-4E03-BB80-1005CE1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745-995F-4D0A-A169-5AA54DC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730-3045-4C22-A60C-CF0BE1B4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127-7EB4-4214-B3EF-FCA72E5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F75-2844-4E91-97F2-5E04FC4B29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ble by 3,9 or 1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ch numbers can only be divided by 3; by 3 and 9; or by 3,9 or 18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8:11:12Z</dcterms:modified>
  <cp:revision>4</cp:revision>
  <dc:subject/>
  <dc:title>PowerPoint Presentation</dc:title>
</cp:coreProperties>
</file>