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9262-8B85-4FEE-978E-B161CF7E9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F293-B779-46F5-B594-AD96C9F7B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3638-FDBE-42B5-95C2-DF27D6F79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52A4-2502-4A6C-955E-A35258FEF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6CF6-D5F8-44B5-98D5-EA73C814C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7F0A-7C63-44E4-B720-2C45E7CB2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E5A1-4957-4AC5-9BD9-B6E383572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664E-88EA-48A9-AC76-3F63A043E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2725-D00B-436C-AD15-85245914E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E3FC-802B-45C7-BCD3-A6480F49E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2685-A11A-47D1-8ECD-FFFF83B87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2FCC-FD43-412C-B38C-4A18163CC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AF52C-7405-43DA-BC00-29F1E8E3BF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60280"/>
            <a:ext cx="7993080" cy="58140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Fractions of 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1341360"/>
            <a:ext cx="1944720" cy="78552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ind ¼ of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48 ; 72; 9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11280" y="2492280"/>
            <a:ext cx="1944720" cy="36828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12;18;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76720" y="1341360"/>
            <a:ext cx="1944720" cy="78552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ind 1/3 of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48 ; 72; 9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76720" y="2492280"/>
            <a:ext cx="1944720" cy="36828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16;24;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867280" y="2492280"/>
            <a:ext cx="1944720" cy="36828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6;9;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867280" y="1341360"/>
            <a:ext cx="1944720" cy="78552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ind 1/8  of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48 ; 72; 9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3357720"/>
            <a:ext cx="1944720" cy="78552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ind 3/4 of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36 ; 56; 7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11280" y="4437000"/>
            <a:ext cx="1944720" cy="36828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27; 42; 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76720" y="3357720"/>
            <a:ext cx="1944720" cy="78552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ind 3/5 of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40 ; 70; 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76720" y="4437000"/>
            <a:ext cx="1944720" cy="36828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24; 42; 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357720"/>
            <a:ext cx="1944720" cy="78552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ind 5/8 of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40 ; 64; 2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867280" y="4437000"/>
            <a:ext cx="1944720" cy="36828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25; 40; 1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157720"/>
            <a:ext cx="1944720" cy="78552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ind 7/9 of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90 ; 63; 7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11280" y="6237360"/>
            <a:ext cx="1944720" cy="36828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70; 49; 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76720" y="6237360"/>
            <a:ext cx="1944720" cy="36828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90; 24; 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5157720"/>
            <a:ext cx="1944720" cy="78552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ind 3/7 of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210 ; 56; 7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867280" y="5157720"/>
            <a:ext cx="1944720" cy="78552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ind 4/11 of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99 ; 121; 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867280" y="6237360"/>
            <a:ext cx="1944720" cy="36828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36; 44; 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6T21:23:13Z</dcterms:created>
  <dc:creator>Teacher</dc:creator>
  <dc:description/>
  <dc:language>en-US</dc:language>
  <cp:lastModifiedBy>Teacher</cp:lastModifiedBy>
  <dcterms:modified xsi:type="dcterms:W3CDTF">2003-03-27T19:48:20Z</dcterms:modified>
  <cp:revision>2</cp:revision>
  <dc:subject/>
  <dc:title>Slide 1</dc:title>
</cp:coreProperties>
</file>