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738E-7038-48EF-85D7-41CF8FE5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5B88-A68E-4ADE-B65A-252D68DA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E027-34FB-423E-9581-017B8FCFD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5ADB-6586-4455-82F1-FFAB8980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5B9A-9A6E-429C-8AEB-71BB3900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7A35-A883-4029-9DC1-D60CF67F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0C47-4A0A-49C5-B060-E4D38E61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B2BC-DC17-45BA-A961-1C40DA2F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2F6D-9764-4033-B842-369C4C24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6724-69C9-4BAF-BAE6-88283485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B2D7-DB30-4D97-9CA4-EE200E4F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C2E6-6143-4EF9-AF09-5712FCD0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8D65-BC0E-48EF-B8B5-0ACF2B8A12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28600"/>
            <a:ext cx="8991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pen the Box -  Addition of negative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066680"/>
          <a:ext cx="7924680" cy="4546800"/>
        </p:xfrm>
        <a:graphic>
          <a:graphicData uri="http://schemas.openxmlformats.org/drawingml/2006/table">
            <a:tbl>
              <a:tblPr/>
              <a:tblGrid>
                <a:gridCol w="1584360"/>
                <a:gridCol w="1585800"/>
                <a:gridCol w="1584360"/>
                <a:gridCol w="1585800"/>
                <a:gridCol w="1584360"/>
              </a:tblGrid>
              <a:tr h="22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8,2,14,4,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04920" y="6019920"/>
            <a:ext cx="8686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19920"/>
            <a:ext cx="91440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se a number line to help you find the answers to these additions, then lift the top card to check your ans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066680"/>
            <a:ext cx="16002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+ -5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1066680"/>
            <a:ext cx="1600200" cy="2286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9 + -3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3352680"/>
            <a:ext cx="1600200" cy="2514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5 + 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3352680"/>
            <a:ext cx="16002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 + -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066680"/>
            <a:ext cx="16002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 + -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9880" y="3352680"/>
            <a:ext cx="1600200" cy="2514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8 +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10080" y="1066680"/>
            <a:ext cx="1600200" cy="2286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0 + 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3352680"/>
            <a:ext cx="16002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6 +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066680"/>
            <a:ext cx="16002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352680"/>
            <a:ext cx="1600200" cy="2514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13 +7+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19:38Z</dcterms:created>
  <dc:creator>ok</dc:creator>
  <dc:description/>
  <dc:language>en-US</dc:language>
  <cp:lastModifiedBy>ok</cp:lastModifiedBy>
  <dcterms:modified xsi:type="dcterms:W3CDTF">2003-08-28T15:00:41Z</dcterms:modified>
  <cp:revision>7</cp:revision>
  <dc:subject/>
  <dc:title>PowerPoint Presentation</dc:title>
</cp:coreProperties>
</file>