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9BC7-95E0-4207-9CB9-AA157F90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F2CD-2EDA-485B-A39D-72F1D3A3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7839-4336-4F96-BDE6-C1BF770D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86D5-9005-4CCC-929F-1A559A4D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75B0-9985-4113-9FB0-70A14D27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D8E8-4A93-4C8F-A90C-10AFB30B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007A-EAF7-477A-8997-6382D613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7141-C385-42B6-B205-A2056E3F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7AE-677E-4685-8A4C-BC95B3BF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CB74-83B7-42F3-8A86-65FA6050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8A2C-A76A-41CB-A02D-DF1FF920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7A4-5FA5-409A-AF51-5D021934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4BA0-45FA-4746-9B78-C788BFED1C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830592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ivision – Halves, Quarters and Eighths of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1397160"/>
          <a:ext cx="7925040" cy="491796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981080"/>
                <a:gridCol w="19814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What is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99ff99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0" lang="en-GB" sz="2000" spc="-1" strike="noStrike" u="sng">
                          <a:solidFill>
                            <a:srgbClr val="99ff99"/>
                          </a:solidFill>
                          <a:uFillTx/>
                          <a:latin typeface="Times New Roman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GB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2  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99ff99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99ff99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4  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99ff99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99ff99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8 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6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26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4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7:19Z</dcterms:created>
  <dc:creator>ok</dc:creator>
  <dc:description/>
  <dc:language>en-US</dc:language>
  <cp:lastModifiedBy>ok</cp:lastModifiedBy>
  <dcterms:modified xsi:type="dcterms:W3CDTF">2003-08-27T16:08:41Z</dcterms:modified>
  <cp:revision>2</cp:revision>
  <dc:subject/>
  <dc:title>PowerPoint Presentation</dc:title>
</cp:coreProperties>
</file>