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5BD-7E2F-429F-AA03-EB53B0C0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48C-E77D-42BA-8352-A2DE78BD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229-586F-46C2-B323-86635EE3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8B7-8882-4279-9A24-0060E649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178-0628-4499-8BA8-10902188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73C-BFC2-471E-83CE-B7AC07F4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4D4-2755-4822-9DBD-FE05D7FA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442-B8E8-4879-BCBA-7C3A7A6A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570-6D5E-4E0D-8ACA-28F8E182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EFE-08D6-494D-8964-B2DEAFB1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619-16DF-4995-B192-A8A3E99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261-BF58-4847-A33A-44901D9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13A9-299F-42B4-B61D-3AE996C11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Rounding Decimals to the nearest whol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must we add to the decimal numbers to reach the next whole number written bel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4:28:57Z</dcterms:modified>
  <cp:revision>5</cp:revision>
  <dc:subject/>
  <dc:title>PowerPoint Presentation</dc:title>
</cp:coreProperties>
</file>