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CE40-2B2A-4854-8339-BEE314EFB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55C6-DCF7-4A11-A434-473BF3D5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4695-8ECD-437E-94EB-DAEF9D1DC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B460-9D3E-4C12-9FFC-A610D9A7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E097-658E-4684-B5AA-47CE54F6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6B52-7D77-439A-97C7-F468E80A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C2CF-0C35-4576-88BE-02DEF758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8573-346C-4AD9-BE50-F05CDB7A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4D19-2ABA-4F42-86E7-7E823B1B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9EA7-3204-479C-978F-CAA7F406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548C-9CFE-4816-826F-BAD68BC2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BC20-1E1E-4D37-854A-BFA192F8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D61E-2AAC-4C6A-8B68-4E132D1B6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260280"/>
            <a:ext cx="69850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sing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148428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148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270828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31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386064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429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508464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11280" y="5084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92720" y="141300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04000" y="1413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64000" y="263700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77080" y="2708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4000" y="386064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64000" y="429264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64000" y="508464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92720" y="515772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9:38:12Z</dcterms:created>
  <dc:creator>Teacher</dc:creator>
  <dc:description/>
  <dc:language>en-US</dc:language>
  <cp:lastModifiedBy>Teacher</cp:lastModifiedBy>
  <dcterms:modified xsi:type="dcterms:W3CDTF">2003-03-25T19:58:37Z</dcterms:modified>
  <cp:revision>2</cp:revision>
  <dc:subject/>
  <dc:title>Slide 1</dc:title>
</cp:coreProperties>
</file>