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BF4-F12D-4189-9E35-F8AE7957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85E-7A78-40F8-8172-8B8A46CF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D3E-386B-4D34-AEDE-9570EDD9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916-1FC8-4FCA-A936-0CAF14D5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C2F-38A2-4E6E-AF68-2E6B04CD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943-874A-44BE-8A4A-B4B238A1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36B-0E65-4CA0-9880-45CC3808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92A-5859-4576-9538-969DADCF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7C1-58C6-4B51-91F2-18057E01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7DD-FCA1-4595-B1CD-1A862183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4CF-9CB0-4C3E-8CE1-E46C3760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B2F-D349-485C-952F-ED58BD50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7F91-446F-47A2-8373-99F22555F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ck Stone says – ‘Let’s work on Mixed Fractions, Year 6!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1440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        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03880"/>
            <a:ext cx="167652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            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99072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 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990720"/>
            <a:ext cx="152424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          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2590920"/>
            <a:ext cx="1600200" cy="173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0         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5303880"/>
            <a:ext cx="167616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           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303880"/>
            <a:ext cx="167616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5303880"/>
            <a:ext cx="167652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           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1:54:36Z</dcterms:created>
  <dc:creator>ok</dc:creator>
  <dc:description/>
  <dc:language>en-US</dc:language>
  <cp:lastModifiedBy>ok</cp:lastModifiedBy>
  <dcterms:modified xsi:type="dcterms:W3CDTF">2003-08-28T12:03:18Z</dcterms:modified>
  <cp:revision>1</cp:revision>
  <dc:subject/>
  <dc:title>PowerPoint Presentation</dc:title>
</cp:coreProperties>
</file>