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E38-D4A5-4A76-AB4A-A0910A06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14D-9054-4445-9025-6FFAC5D3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488-29A6-46C2-A58D-D7C912C6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124-DEC5-4992-8C21-4E4C09B9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615-56AA-4979-9E80-C40ECAFF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C01-D37D-43E3-804B-4057DC95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610-843A-4C2D-8DCF-CB1F0831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64C-408B-40BF-B8B3-8C9CA3AF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F2B-1021-476E-93E1-DD2A6159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5A7-3E70-4E3F-8059-C034005C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7F2-09B5-49A4-95C6-8B4B4DFF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CE5-8487-448A-B7C5-887DBECD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F6E9-7AA1-43E2-A10D-5D084BBF8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ars each use a different amount of petrol. On average a car drives 160 km a week and the petrol it uses costs 80p per lit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A : 30 m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B: 28 m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C: 25 m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4292640"/>
            <a:ext cx="73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8km is equal to 5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litres is equal to 2 ga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5897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much does each car cost to run for one week? How much does it cost for one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06:48Z</dcterms:created>
  <dc:creator>Teacher</dc:creator>
  <dc:description/>
  <dc:language>en-US</dc:language>
  <cp:lastModifiedBy>Teacher</cp:lastModifiedBy>
  <dcterms:modified xsi:type="dcterms:W3CDTF">2003-02-23T14:06:57Z</dcterms:modified>
  <cp:revision>1</cp:revision>
  <dc:subject/>
  <dc:title>Three cars each use a different amount of petrol. On average a car drives 160 km a week and the petrol it uses costs 80p per litre. </dc:title>
</cp:coreProperties>
</file>