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802-1411-46E9-94DB-A993CBF7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29C-52C9-4DB2-83D9-B2F9BD18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9F5A-B94E-4577-942C-2183CF7D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CA2-DB06-4A24-9087-96B8D68A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8F4-1A65-4A13-81E8-5F45E2FA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9C3-3087-49CD-B0F7-CE529043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2712-BC52-4F29-91B4-D9E2BA6B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2C62-2790-4AFF-AC73-4006F080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FB58-ABD5-4BFB-939B-B94FC321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48A-20BE-4192-9976-CA073970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97A-DDBC-4FAA-BB19-8B55055A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430-AA62-4CAA-AF3C-AAEABF04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73DA-15E1-463E-B224-F2896E9D6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6019920"/>
            <a:ext cx="845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must you add to the number on the green box to make 10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6:45:11Z</dcterms:modified>
  <cp:revision>3</cp:revision>
  <dc:subject/>
  <dc:title>PowerPoint Presentation</dc:title>
</cp:coreProperties>
</file>