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5E5-AF60-4B1D-9B4F-14555715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4A8-6FE9-40BC-8DED-3E3BBC97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1ED-34DB-4687-BB18-C2369232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CBD-90FE-439F-93C8-6DF1234E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E8B-A489-4214-9BB3-40CA2159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E8E-97AE-4F7D-BF8E-212CE505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1F9-D180-49AE-896F-1816B561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51B-6ED4-4517-A06E-C71B872B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310-E469-4685-A4BC-58BEBB7C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D25-02C4-4913-876E-6ED4EFE7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38B-4B06-4647-A6F5-87A0000B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B59-A3BA-410B-84E5-93A5EE1B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9961-DA32-4000-A1DD-E0E1BCD3C7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 the Box -  Fractions and Decimal Equival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are the equivalent fractions below the decima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2:14:10Z</dcterms:modified>
  <cp:revision>3</cp:revision>
  <dc:subject/>
  <dc:title>PowerPoint Presentation</dc:title>
</cp:coreProperties>
</file>