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4BD-2DFB-4A1B-9949-5862088C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ECC-B29A-4CCE-97F6-8E7CBABB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E00-7682-4777-AA6C-21A8E50B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36D-5581-458C-8E10-E09F2E23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C26-BEFE-41B2-9E4E-376AC90C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324-D522-4A14-84F9-5B6832A0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BA4-4A33-4EE1-8ECC-CD367BE7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00E-4229-488B-ABB3-92E289B8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145-1FFE-4A7E-BC92-82BCCF34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3AB-2BD6-4BCB-BA3F-870A38D4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1B9-409A-4786-BFF4-3EFC0A08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D5B-5896-4ACB-A7D2-B227D0CF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0AB1-F9CC-420B-8A99-605910965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25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0 – 190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125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773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565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328464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93372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4581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844640"/>
            <a:ext cx="338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3 – 108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565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3 – 119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284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20 – 390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860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2 – 139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581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0 – 197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260280"/>
            <a:ext cx="7417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Find out what the correct answer should be for thes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44500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5445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80 – 0.97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2.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42:34Z</dcterms:created>
  <dc:creator>Teacher</dc:creator>
  <dc:description/>
  <dc:language>en-US</dc:language>
  <cp:lastModifiedBy>Teacher</cp:lastModifiedBy>
  <dcterms:modified xsi:type="dcterms:W3CDTF">2003-02-12T20:27:44Z</dcterms:modified>
  <cp:revision>3</cp:revision>
  <dc:subject/>
  <dc:title>Slide 1</dc:title>
</cp:coreProperties>
</file>