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2A55-50C3-4557-B6BB-DE44567D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ABE-8BD2-4655-8968-B82D127D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008-52DB-45AC-8E42-0DC66516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1D46-EB70-4FF5-AAE9-1B69D950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109-36E4-4AB4-B43D-8675A9FE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B5B-23BB-4A2D-B87F-5109D82D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B0AF-E0EE-405D-A8E6-B916E765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8C5E-0C9C-42F5-9CC0-F5C804C5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BF42-84B5-4988-BCB9-370A7823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0FE2-57A0-411B-A09E-E55BF558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2C6-2C59-42C3-82BA-BB11E2CB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235D-1D62-44E2-B8C0-56CDBBF6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DF85-52E5-417D-A921-16B00044EF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04920"/>
            <a:ext cx="8153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ng Numbers - Sub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295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Times New Roman"/>
              </a:rPr>
              <a:t>613 x 2 = 1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3716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13716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209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257 x 3  =   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22860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200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368 x 2  = 7   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2767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114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415 x 3 = 1        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191120"/>
            <a:ext cx="38088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4191120"/>
            <a:ext cx="38088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029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922 x 2 =  1      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5105520"/>
            <a:ext cx="38088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867280"/>
            <a:ext cx="9144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find out what the missing digits are for these multiplic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1295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837 x 3  = 26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86600" y="13716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2209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561 x 2 =            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660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3124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498 x 3 = 1      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32004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4038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113 x 2 =      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41148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41148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4952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709 x 3 = 2     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50292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50292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7:13:47Z</dcterms:created>
  <dc:creator>ok</dc:creator>
  <dc:description/>
  <dc:language>en-US</dc:language>
  <cp:lastModifiedBy>ok</cp:lastModifiedBy>
  <dcterms:modified xsi:type="dcterms:W3CDTF">2003-08-27T18:41:48Z</dcterms:modified>
  <cp:revision>2</cp:revision>
  <dc:subject/>
  <dc:title>PowerPoint Presentation</dc:title>
</cp:coreProperties>
</file>