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6B7C-F503-46B1-A729-41E08729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2077-DEBC-442A-8452-3E486A11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4C2D-1EA8-4191-9497-483450F6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0F10-8B2C-4508-9F7F-D552D6E9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F478-B333-42F9-93BD-3E1CDEBE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B401-E8F7-4792-AE64-D664F07F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B2FC-B9F3-42B2-B105-5CF67613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CF3F-57CA-4AF3-BDE7-A8BCEA70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4779-2B68-4B52-9953-6D10C30E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4FB0-A843-4829-A2B1-2AE55250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439F-9B37-45B1-BAC7-59A605A8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ABCA-CD45-4B3E-9817-807B9265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5C83-BC75-4C49-AC30-F54F5CBDF6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28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des – Adding multiples of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2193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914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o + goo = ao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4800600"/>
            <a:ext cx="4876920" cy="1810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number does each letter repres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e – o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go + ggo = ao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31240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 + ifo = ao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9907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co + fho = ao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39625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go + igo = f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20574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go + hgo = g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31240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go + ego = d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3886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o + cao = ao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6:19:20Z</dcterms:created>
  <dc:creator>ok</dc:creator>
  <dc:description/>
  <dc:language>en-US</dc:language>
  <cp:lastModifiedBy>ok</cp:lastModifiedBy>
  <dcterms:modified xsi:type="dcterms:W3CDTF">2003-08-27T16:54:27Z</dcterms:modified>
  <cp:revision>2</cp:revision>
  <dc:subject/>
  <dc:title>PowerPoint Presentation</dc:title>
</cp:coreProperties>
</file>