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F88-7160-4247-8ADE-0D0C1B3E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286-5EC9-4F5F-9985-46C2252B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FB1-42A6-4AC1-AE1B-3C21E97F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949-8556-4336-83BF-5775862A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3C1-CA77-4CB8-86D9-7EE8B55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DE5-5519-42E9-917F-CBB52BF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D03-357D-4C15-B702-AA14DD3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074-5E8F-4B9C-9C53-DFE12B2A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AC7-2925-4711-BDA4-E7166D7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CB5-64B4-4DA8-9313-1FE5484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CEB-B1A8-4F6F-BB76-7A8DEB3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BD7-416D-4CF4-BBCA-592809AB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8B1D-BF78-4AA3-9D6C-1E4A7905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450864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43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112536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89000"/>
            <a:ext cx="6048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3:46Z</dcterms:created>
  <dc:creator>Teacher</dc:creator>
  <dc:description/>
  <dc:language>en-US</dc:language>
  <cp:lastModifiedBy>Teacher</cp:lastModifiedBy>
  <dcterms:modified xsi:type="dcterms:W3CDTF">2003-03-25T19:35:14Z</dcterms:modified>
  <cp:revision>1</cp:revision>
  <dc:subject/>
  <dc:title>Slide 1</dc:title>
</cp:coreProperties>
</file>