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980-945D-423D-9D20-2589FBB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561-ABEA-4BC7-AC5F-A8E097DC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D7D-D0CB-4C96-88B0-99A234D4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B72-FE19-4FAA-B2AD-5024EE6B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6C0-0FE6-426F-8494-7DFA79A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C4E-02A0-4788-9944-24786489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C62-8FC5-4D98-8D68-F085F66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261-915C-4B4A-916D-669B1A3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5F7-AEE0-4BE4-9784-03871B8C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F96-BB3D-4A29-A4E7-14166C80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1A6-B294-4EC3-8AAA-052FB1E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57D-30F1-47F0-BAD7-D141D379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A372-58C6-4367-8951-F31477740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Factor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78008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32, 2, 16, 4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40, 2, 20, 4, 10, 5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8, 2, 9, 3, 6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00, 2,50, 4, 25, 5, 20,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,5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5,5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8,2,34,4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all the factors of the numbers on the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47:18Z</dcterms:modified>
  <cp:revision>6</cp:revision>
  <dc:subject/>
  <dc:title>PowerPoint Presentation</dc:title>
</cp:coreProperties>
</file>