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F3E-2113-44C6-8CE0-C3AEDCEA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BFE-6D94-46DD-B5F7-46786EDF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C9B-CE7E-4034-BCE7-17AAB40E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1FA-3500-443C-BC4B-AA89F3DB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204-FB65-4B31-AA61-2E97639A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A62-51BB-4251-87A0-3FC1048B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BB0-44C9-4BCF-8C51-6288EC6D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B16-257D-4C3B-A416-0D4FB5AE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7E0-FAD7-4F6A-BDBC-104E5CBC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5C5-0341-4402-B2B3-905A82FD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0E1-F6EC-4AAF-91FC-5583267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658-779E-4008-AD0C-768CB9C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AE35-8688-4C8F-BB88-FB03E1D0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168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7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4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5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half of 17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6-24T15:32:14Z</dcterms:modified>
  <cp:revision>3</cp:revision>
  <dc:subject/>
  <dc:title>Slide 1</dc:title>
</cp:coreProperties>
</file>