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50E-5C0A-4825-A7BD-52624779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A77-5528-4358-B85A-570EF7BB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9F81-7018-4FB6-9834-1ED2E5F3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292-83DC-4344-8504-C28FC3E3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F48-04B3-481F-AB7E-7257147D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A3B-692F-49CA-BFFB-1F2D551C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C851-B392-4377-AF8E-EE043ADA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843-98A2-4D9A-B4B8-B9E2BB9D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58B-4E91-436F-8875-02BF8F34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E04-7F13-40B7-AFA0-0E0A6AFD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E2A-9500-44CD-9FED-9D9E7BDC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B53-B465-4206-B447-843FADF7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987A-3697-4152-88BE-25A5EFD261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s – Multiplication to 10 x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219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14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 x h =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334120"/>
            <a:ext cx="8076960" cy="132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git does each letter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e – o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 x f = 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124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 x a = 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90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g x h = 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962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x c = f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057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 x i =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3124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 x c = a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38862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 x d =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4572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x c = b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19:20Z</dcterms:created>
  <dc:creator>ok</dc:creator>
  <dc:description/>
  <dc:language>en-US</dc:language>
  <cp:lastModifiedBy>ok</cp:lastModifiedBy>
  <dcterms:modified xsi:type="dcterms:W3CDTF">2003-08-27T19:34:44Z</dcterms:modified>
  <cp:revision>3</cp:revision>
  <dc:subject/>
  <dc:title>PowerPoint Presentation</dc:title>
</cp:coreProperties>
</file>