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EEA-AB2F-4FC9-95D4-09B2A0C5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4EF-45C7-4D41-AD8D-6C509C8D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5F0-431A-4B68-B806-C902D00F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71C-81BE-4465-BD44-05EC9ECA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4F3-125E-4CD5-AC6E-A00B520F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765-EB11-447A-AC8F-24F14D8B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577-14C3-4F81-A748-0825ABDB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4C3-A421-4B6E-B2EF-0AA07A5B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B5B-F3DE-4AD7-BE79-89C7AF9B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D84-05C6-491C-8935-1C6EB78A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D0C-B28B-49C4-8E89-DED71C18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CB5-7B35-4870-A8CC-01C73D0B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94D3-AEE1-490E-877A-299F07598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id Multiplication and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397160"/>
          <a:ext cx="7924320" cy="454608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each number by 8. Then divide it by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5:20:03Z</dcterms:modified>
  <cp:revision>1</cp:revision>
  <dc:subject/>
  <dc:title>PowerPoint Presentation</dc:title>
</cp:coreProperties>
</file>