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BC0-BF7D-43F6-A961-6D762EAD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638-F100-4A45-840D-1D649A8E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1A70-C844-4B9E-AB56-866C4344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6A03-567F-4891-B054-5F52820F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17A-1268-478A-B386-E633727B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0E5-76EF-4DA0-AA5C-728722BB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CCC-8119-471F-A4B8-CA537979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78B-8408-4944-BB7A-3C2C7F88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366A-BAAB-49CA-95C9-4484EF17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E85-0706-4699-92D6-E655473B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072-CC32-408E-86D8-04931C9C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0EE-6DE6-478D-8D3E-C6DF4EDA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CA97-B32D-47A9-A578-3D4315653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ng Numbers - Sub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295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264 – 99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13716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3716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209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88 – 199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200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28 – 198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32767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2767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114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693 – 298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1911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1911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5029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776 – 397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51055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51055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51055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867280"/>
            <a:ext cx="84582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find out what the missing digits are for these subtra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1295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362 – 199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62920" y="13716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13716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2209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344 – 199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3124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365 – 299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32004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32004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038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724 – 197 =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41148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41148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4952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693 – 587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50292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43800" y="50292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7:13:47Z</dcterms:created>
  <dc:creator>ok</dc:creator>
  <dc:description/>
  <dc:language>en-US</dc:language>
  <cp:lastModifiedBy>ok</cp:lastModifiedBy>
  <dcterms:modified xsi:type="dcterms:W3CDTF">2003-08-27T17:14:12Z</dcterms:modified>
  <cp:revision>1</cp:revision>
  <dc:subject/>
  <dc:title>PowerPoint Presentation</dc:title>
</cp:coreProperties>
</file>