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2CE-A9CE-49D8-B204-98FB954B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DED-443C-45C3-A4B4-FD924E0F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ECC-8814-4E67-975A-EC937426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F01-34B3-417B-B9EE-E9F1FEB2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29C-C10E-4CDF-9E65-28F92F4F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300-9160-4E25-AEC4-4117D70D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A0B-18CF-4BA5-8173-70890898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1BD-9835-4B01-8253-7C068671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3EB-FBC0-4CE6-BFAC-35C5A027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862-CD38-4523-9950-9604F382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ED5-5F75-4DDF-B366-8E854BF4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C2D-274E-41E9-B3D0-72ACDD6A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2ABA-9232-4A87-BDE5-35E9AC0E9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Grid Fractions – Fractions and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397160"/>
          <a:ext cx="8076960" cy="4546080"/>
        </p:xfrm>
        <a:graphic>
          <a:graphicData uri="http://schemas.openxmlformats.org/drawingml/2006/table">
            <a:tbl>
              <a:tblPr/>
              <a:tblGrid>
                <a:gridCol w="1615320"/>
                <a:gridCol w="1615680"/>
                <a:gridCol w="1614960"/>
                <a:gridCol w="1615680"/>
                <a:gridCol w="161532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33:10Z</dcterms:created>
  <dc:creator>ok</dc:creator>
  <dc:description/>
  <dc:language>en-US</dc:language>
  <cp:lastModifiedBy>ok</cp:lastModifiedBy>
  <dcterms:modified xsi:type="dcterms:W3CDTF">2003-08-27T16:33:38Z</dcterms:modified>
  <cp:revision>1</cp:revision>
  <dc:subject/>
  <dc:title>PowerPoint Presentation</dc:title>
</cp:coreProperties>
</file>