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E6F-7609-403C-9C3D-4819EC04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40B-C575-4643-BB64-04CFD4A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77C-6194-4FD8-9068-D2D17F10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70A-E703-4434-A3DD-4FA03B1D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C46-55F4-472B-9103-5D857881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925-A9BC-4DF6-AC04-761EDBB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0CC-E7D7-4D17-A820-792D7FB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FBA-B083-44FA-BC7B-8B58093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27C-17BE-4CDF-B092-BAAA2B18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293-4C85-4AEB-9154-D2BEC15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A82-BA71-472D-B151-251DADF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6A8-5315-449B-A2D9-D9C4A09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B21-C110-420E-99AA-63082AEE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9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2004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8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148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5288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4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1523880"/>
            <a:ext cx="2438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36232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5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2004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7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3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divis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7T19:46:40Z</dcterms:modified>
  <cp:revision>1</cp:revision>
  <dc:subject/>
  <dc:title>PowerPoint Presentation</dc:title>
</cp:coreProperties>
</file>