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B01-8714-4EE2-8B86-BA8292EA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1D1-017D-4A8B-8EAE-35C642D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DBD-4FA8-4472-8593-32025EC6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03D-8257-4E49-90EB-7DFB3AC8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924-FB4A-4525-B982-F4020CE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1E6-E425-4174-8E52-FA715F4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D64-9588-4CE6-9760-9C3FDAB1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014-5994-4E8F-B6AB-7BB9D8E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430-4736-4D5A-9128-D7273F1E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ACC-ABA9-4022-AE02-EA62250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0EF-C328-4291-839E-4C641B13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420-3487-4339-A92F-AF94D56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0098-EAAE-4D6F-A7E8-5A7D3FCA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98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78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0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9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09T21:18:40Z</dcterms:modified>
  <cp:revision>2</cp:revision>
  <dc:subject/>
  <dc:title>Slide 1</dc:title>
</cp:coreProperties>
</file>