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B4D-742C-4E8D-A901-8B1F1F7D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9B5-ACFF-4122-91BC-0E12A68A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4B0-3B8B-4F46-A0ED-0135DF02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33E-5CB9-40C4-BCB1-E6C1E1C5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68F-325F-4F45-AE2C-49653562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DE4-5405-4640-917A-12CF4433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7F7-2677-4840-BF22-EC0A5474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950-4B97-46FC-8962-977738ED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4A9-16CF-4EC7-A9A9-0FE5C56A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3DD-7CC7-45BA-A591-867D5BF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217-7113-40CE-8A65-8765FD82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E12-6B8A-452B-AC00-80695D96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B829-FCF5-4431-BC56-E3C9083F6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ide these numbers by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22:11:04Z</dcterms:created>
  <dc:creator>Teacher</dc:creator>
  <dc:description/>
  <dc:language>en-US</dc:language>
  <cp:lastModifiedBy>Teacher</cp:lastModifiedBy>
  <dcterms:modified xsi:type="dcterms:W3CDTF">2003-03-03T22:11:19Z</dcterms:modified>
  <cp:revision>1</cp:revision>
  <dc:subject/>
  <dc:title>Slide 1</dc:title>
</cp:coreProperties>
</file>