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F11-2559-4C67-B781-6E1DA6A0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56B-1364-45DA-A1B1-211347DD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EE5-C814-4D74-A433-3E420BA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A89-E95F-403A-839F-F5BDA5F8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8FF-DF21-4CD0-98F2-31577779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AC6-7097-47B5-8268-D3C70E49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82C-86FA-4BD1-9232-F6D0001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5C8-EAFA-40E1-8825-5C1B8A5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F68-A61F-4BCB-B2FC-6A05099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35C-C012-4D4E-924C-BEB2A1A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12C-CF4B-4B9E-86D6-85DE0D2B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2FE-6BEF-4813-A037-1420139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2AEE-182C-4752-A3C9-98D8929F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637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141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836640"/>
            <a:ext cx="2808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789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429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69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516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156360"/>
            <a:ext cx="280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16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33:30Z</dcterms:created>
  <dc:creator>Teacher</dc:creator>
  <dc:description/>
  <dc:language>en-US</dc:language>
  <cp:lastModifiedBy>Teacher</cp:lastModifiedBy>
  <dcterms:modified xsi:type="dcterms:W3CDTF">2003-02-05T22:37:56Z</dcterms:modified>
  <cp:revision>2</cp:revision>
  <dc:subject/>
  <dc:title>Slide 1</dc:title>
</cp:coreProperties>
</file>