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A34-78FB-4737-9B52-4BB39031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589-4733-4A86-A2C2-25FB089A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F96-9857-4310-845A-CEB3A9A4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1BB-04FE-4DFD-BA0D-886D1DCC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D4F-7854-4C82-B7A1-BFAB944F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3D9-AECE-4E70-AC8C-A0D20A5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13C-E5FB-47C6-B9BE-1CF6624E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62E-DD1E-4A57-B642-09FEF396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DCD-6473-41F5-BD15-381F3AA3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51B-3D12-49F1-9B24-B022489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290-2CC2-4543-8B95-3E901D9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54F-8DDF-47A3-9ACF-25D823EE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3B2B-55C4-4559-ACE3-92FCC1CE8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9040"/>
        </p:xfrm>
        <a:graphic>
          <a:graphicData uri="http://schemas.openxmlformats.org/drawingml/2006/table">
            <a:tbl>
              <a:tblPr/>
              <a:tblGrid>
                <a:gridCol w="1905120"/>
                <a:gridCol w="2095560"/>
                <a:gridCol w="2000160"/>
                <a:gridCol w="2000160"/>
              </a:tblGrid>
              <a:tr h="20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2.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.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8.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3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a 2-digit Number by 10 and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03:53Z</dcterms:modified>
  <cp:revision>2</cp:revision>
  <dc:subject/>
  <dc:title>PowerPoint Presentation</dc:title>
</cp:coreProperties>
</file>