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BED-1140-4A3B-94FE-AC64AB51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7D5-B171-4F2C-ABBA-4AC10E2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307-FEDA-47FE-8092-80D831A3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60C-C093-4F3C-84F8-73610EF8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68B-51DA-4B81-A9D4-BCE85B53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C0F-36C6-4CBA-878E-CC4810AE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261-B5E8-4DDA-88EA-751ADCE4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EA4-CDBF-4C8E-9A4E-2DEC0F55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CB2-6CB0-4858-B8EB-34B8978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8A9-BDFA-4327-963D-5111100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22C-4584-4A29-8380-23009AEF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EE1-CC59-4F1C-823C-D46B054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D856-8624-4530-90A2-0966866518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33:04Z</dcterms:modified>
  <cp:revision>2</cp:revision>
  <dc:subject/>
  <dc:title>PowerPoint Presentation</dc:title>
</cp:coreProperties>
</file>