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05E-38CD-4BF7-932A-D581C3D5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8CE-CB96-4EA2-8C81-9E66D131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717-14E0-455D-8231-ABE4449C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1CA-27DB-47B9-9949-353572E6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823-A946-4C6B-83E7-F86C0170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396-725A-4D74-AB4A-2AB1C51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153-C26C-4137-A184-F006F6A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053-CE89-413B-83F9-6669E58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D59-5344-463D-AF92-A580D16B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CF5-5403-4E98-B268-5AB42D2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198-11D4-4874-B94A-34FD536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C4F-4AEB-4C6A-AA5A-3FB9440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C4EA-F355-4EEC-A015-2C6699B4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2% 0f 3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20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30% of 213 or 1/5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% o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7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73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8-packs of crips can be made from a total package of 768 cris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0% of of a quarter of 68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5 of 33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3737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90% of 6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22:37:32Z</dcterms:modified>
  <cp:revision>4</cp:revision>
  <dc:subject/>
  <dc:title>Slide 1</dc:title>
</cp:coreProperties>
</file>