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AC2-298C-4F38-9617-738402F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DF9-7488-4079-B5B7-EDE6F005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2F7-3BC1-4200-A146-BB9C469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F19-E98A-437E-9B99-8A3D69F2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AA3-85B2-4BE8-94E7-CE20277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2D6-79F7-4213-9D70-46E22E9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AD9-75C5-4C47-8499-D3C2F0BF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9EB-A9D1-4A14-B547-5BA2BCB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FEA-FD60-4F05-8BD2-D710F85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95E-91F5-4D68-890A-23739EA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0D2-88D1-42C2-B2BE-EF7CC0A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BE6-878C-4438-9065-ECA69A5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0004-2B5B-4A44-B0F5-1D28D3A5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268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8 bottles wide and 6 bottles deep. If there are 13 rows in a crate, how many bottles are there in a c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64500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7 bottles wide and 5 bottles deep. If there are 12 rows in a crate, how many bottles would be lest in a crate if you had delivered 257 bott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weighs 210 kgs. If there 350 bottles on a crate, how much will one bottle weigh in gram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14172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costs £75. If there are 5 rows that are 10 bottles wide and 5 bottles deep, how much will one bottl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22:07:54Z</dcterms:created>
  <dc:creator>Teacher</dc:creator>
  <dc:description/>
  <dc:language>en-US</dc:language>
  <cp:lastModifiedBy>Teacher</cp:lastModifiedBy>
  <dcterms:modified xsi:type="dcterms:W3CDTF">2003-03-21T09:39:08Z</dcterms:modified>
  <cp:revision>2</cp:revision>
  <dc:subject/>
  <dc:title>Slide 1</dc:title>
</cp:coreProperties>
</file>