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7B6-FB1F-4B39-9120-EFD29754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845-06F1-470C-823F-4C5332BC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1E0-CCA1-4275-873A-81F529F7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CB3-D666-4D87-9751-B44AC83F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23B-BEF9-4DCE-9AFD-8C450E1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960-401C-4BAA-B0E1-B67223B2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F87-FDB0-4DEC-9B21-DC164B34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7D8-D7A3-48EA-8D22-9E2C482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6E2-AB57-4188-BA1D-5B03DBF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A62-8330-4D96-ABE3-7BDD1769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F81-EEFB-4C6E-BAC9-78E1D2D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C94-4B7E-4CB7-A467-7D8A170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A2F0-61A5-48F7-879B-8D84C238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4680" cy="4851000"/>
        </p:xfrm>
        <a:graphic>
          <a:graphicData uri="http://schemas.openxmlformats.org/drawingml/2006/table">
            <a:tbl>
              <a:tblPr/>
              <a:tblGrid>
                <a:gridCol w="1981440"/>
                <a:gridCol w="1980720"/>
                <a:gridCol w="1981080"/>
                <a:gridCol w="19814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5:27:32Z</dcterms:modified>
  <cp:revision>1</cp:revision>
  <dc:subject/>
  <dc:title>PowerPoint Presentation</dc:title>
</cp:coreProperties>
</file>