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225-42C3-4F2C-BA71-64FCE833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147-4F45-4D78-AD04-C18082C0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A96-1DDE-4271-9D8D-4F346ADF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494-6D65-4883-9825-39ACC110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266-F842-4E40-8717-ED1C24AC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DE8-FE51-4D88-9052-A18E1A91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9F9-4055-4537-8EFA-48D13476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9FD-E0CD-4054-9449-2AAC5B70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7BA-22C6-4C24-AEF4-937F5E0E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549-6D29-49DE-962D-0C60CD6E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331-9457-40DE-8A1A-800A9ECC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31B-29C5-4F0C-B4CD-8F5D4D2D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2124-50A7-41DA-84E6-5F3D6C8B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25% 0f 486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16720" y="494172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75% 0f 82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21000"/>
            <a:ext cx="18000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greater; 50% of 213 or 30% of 3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357336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5% 0f 46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44500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/12 of 8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836640"/>
            <a:ext cx="180000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boxes will be needed to put 768 eggs into packs of 1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2492280"/>
            <a:ext cx="1800000" cy="916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reater; 1/3 of 2070 or 20% of 3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93372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half of 2/3 of 87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/3 of 213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57:02Z</dcterms:created>
  <dc:creator>Teacher</dc:creator>
  <dc:description/>
  <dc:language>en-US</dc:language>
  <cp:lastModifiedBy>Teacher</cp:lastModifiedBy>
  <dcterms:modified xsi:type="dcterms:W3CDTF">2003-03-13T13:19:31Z</dcterms:modified>
  <cp:revision>3</cp:revision>
  <dc:subject/>
  <dc:title>Slide 1</dc:title>
</cp:coreProperties>
</file>