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22-1F47-457A-B748-D94FC4EF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F34-46B7-4A55-9FB4-CDC55E6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FF6-56B6-4263-AD4B-314126E8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AB3-2CA5-424B-8E6B-7942D97F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C73-5338-4C95-B4E6-D6C785D7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552-31DC-43E0-8DD1-0995A95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ADC-D288-4DC9-BCE4-C5AC3E9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22E-D1C3-4C36-8BED-C85EED5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EA0-A561-4C16-A42F-95FB0BB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191-67EE-4917-BAFC-4F4AE17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BE4-9FDA-4341-A31B-728EC40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ACB-3432-4A1F-95C1-7C9F888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2FE4-455A-46CF-92F6-C85F5C809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ercentage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 240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0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2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8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0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4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213520"/>
            <a:ext cx="2158920" cy="946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80 that has been reduced by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2737080" cy="7333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1200 that has been reduced by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£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4-01T07:19:13Z</dcterms:modified>
  <cp:revision>4</cp:revision>
  <dc:subject/>
  <dc:title>Slide 1</dc:title>
</cp:coreProperties>
</file>